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Click to move the slide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DC3BE-32B5-4D6C-B7C5-D255A2736124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2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C97B2-6298-4EE8-8254-7FA3191ADA9E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608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2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02F42-9FF0-4DBC-98E0-C9AD9B294E81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608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2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BDA49-5485-434B-A5AF-79BA0EBFF1C0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608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2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5CDDC-A69A-459B-AF96-D84BFAAC37DF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608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29E91-0B63-4858-A351-3A3EFD35C257}" type="slidenum">
              <a:rPr b="0" lang="pt-BR" sz="1200" spc="-1" strike="noStrike">
                <a:solidFill>
                  <a:srgbClr val="000000"/>
                </a:solidFill>
                <a:latin typeface="Arial"/>
                <a:ea typeface="Gene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  <a:ea typeface="Genev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C07BA-A634-47EE-A0C6-AFDE42D05C57}" type="slidenum">
              <a:rPr b="0" lang="pt-BR" sz="1200" spc="-1" strike="noStrike">
                <a:solidFill>
                  <a:srgbClr val="000000"/>
                </a:solidFill>
                <a:latin typeface="Arial"/>
                <a:ea typeface="Gene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  <a:ea typeface="Genev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15D0A-7884-4B3C-93C8-52D3884F53DF}" type="slidenum">
              <a:rPr b="0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2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2FDEF-C7F9-4177-9FC9-D16EABA2153E}" type="slidenum">
              <a:rPr b="0" lang="en-GB" sz="1200" spc="-1" strike="noStrike">
                <a:solidFill>
                  <a:srgbClr val="000000"/>
                </a:solidFill>
                <a:latin typeface="Arial"/>
                <a:ea typeface="Gene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608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Genev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2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29D29-92C3-4A6C-8321-0DDD3C75829A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608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9192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7436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9192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7436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67AFE-FC82-4A17-82BD-8F545E1A2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FB41C-6C75-4B04-840C-7888E51C1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DE3D6-2762-4069-892B-C388B21DB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16914-0BC4-41A9-91E5-CF1ACF9A6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09FFC-5401-46EC-903C-6A446EB63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81532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2BBF6-4FA7-42F5-8F31-B0EF06F5A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3F7DB-B88E-49F5-BB40-D1DE5E2F4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C0756-4A53-4F47-8B30-256EC4042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3467F-3E05-4A56-9420-47F57BA3D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D1C54-8072-4886-9D22-A0B201E51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1C5A9-E90C-478D-AD01-381DE47B9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39192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17436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60948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39192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17436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15E41-A96B-44E2-BC4D-BA060BE42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81532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Freeform 6"/>
          <p:cNvSpPr/>
          <p:nvPr/>
        </p:nvSpPr>
        <p:spPr>
          <a:xfrm>
            <a:off x="685800" y="380880"/>
            <a:ext cx="8229600" cy="60984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Imagem 6" descr="borda_slide.png"/>
          <p:cNvPicPr/>
          <p:nvPr/>
        </p:nvPicPr>
        <p:blipFill>
          <a:blip r:embed="rId2"/>
          <a:stretch/>
        </p:blipFill>
        <p:spPr>
          <a:xfrm>
            <a:off x="0" y="258840"/>
            <a:ext cx="431640" cy="6608520"/>
          </a:xfrm>
          <a:prstGeom prst="rect">
            <a:avLst/>
          </a:prstGeom>
          <a:ln w="0">
            <a:noFill/>
          </a:ln>
        </p:spPr>
      </p:pic>
      <p:pic>
        <p:nvPicPr>
          <p:cNvPr id="4" name="Imagem 6" descr="ìnpe_simbolo.jpg"/>
          <p:cNvPicPr/>
          <p:nvPr/>
        </p:nvPicPr>
        <p:blipFill>
          <a:blip r:embed="rId3"/>
          <a:stretch/>
        </p:blipFill>
        <p:spPr>
          <a:xfrm>
            <a:off x="0" y="0"/>
            <a:ext cx="571680" cy="428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6"/>
          <p:cNvSpPr/>
          <p:nvPr/>
        </p:nvSpPr>
        <p:spPr>
          <a:xfrm>
            <a:off x="685800" y="380880"/>
            <a:ext cx="8229600" cy="60984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Imagem 6" descr="borda_slide.png"/>
          <p:cNvPicPr/>
          <p:nvPr/>
        </p:nvPicPr>
        <p:blipFill>
          <a:blip r:embed="rId2"/>
          <a:stretch/>
        </p:blipFill>
        <p:spPr>
          <a:xfrm>
            <a:off x="0" y="258840"/>
            <a:ext cx="431640" cy="6608520"/>
          </a:xfrm>
          <a:prstGeom prst="rect">
            <a:avLst/>
          </a:prstGeom>
          <a:ln w="0">
            <a:noFill/>
          </a:ln>
        </p:spPr>
      </p:pic>
      <p:pic>
        <p:nvPicPr>
          <p:cNvPr id="43" name="Imagem 6" descr="ìnpe_simbolo.jpg"/>
          <p:cNvPicPr/>
          <p:nvPr/>
        </p:nvPicPr>
        <p:blipFill>
          <a:blip r:embed="rId3"/>
          <a:stretch/>
        </p:blipFill>
        <p:spPr>
          <a:xfrm>
            <a:off x="0" y="0"/>
            <a:ext cx="571680" cy="42876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2"/>
          <p:cNvSpPr/>
          <p:nvPr/>
        </p:nvSpPr>
        <p:spPr>
          <a:xfrm>
            <a:off x="0" y="0"/>
            <a:ext cx="3505320" cy="6858000"/>
          </a:xfrm>
          <a:prstGeom prst="rect">
            <a:avLst/>
          </a:prstGeom>
          <a:gradFill rotWithShape="0">
            <a:gsLst>
              <a:gs pos="0">
                <a:srgbClr val="cccce6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3"/>
          <p:cNvSpPr/>
          <p:nvPr/>
        </p:nvSpPr>
        <p:spPr>
          <a:xfrm>
            <a:off x="1716120" y="1690560"/>
            <a:ext cx="7427880" cy="2533680"/>
          </a:xfrm>
          <a:prstGeom prst="rect">
            <a:avLst/>
          </a:prstGeom>
          <a:solidFill>
            <a:srgbClr val="0847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Group 4"/>
          <p:cNvGrpSpPr/>
          <p:nvPr/>
        </p:nvGrpSpPr>
        <p:grpSpPr>
          <a:xfrm>
            <a:off x="0" y="1066680"/>
            <a:ext cx="2867040" cy="3157560"/>
            <a:chOff x="0" y="1066680"/>
            <a:chExt cx="2867040" cy="3157560"/>
          </a:xfrm>
        </p:grpSpPr>
        <p:sp>
          <p:nvSpPr>
            <p:cNvPr id="47" name="Rectangle 5"/>
            <p:cNvSpPr/>
            <p:nvPr/>
          </p:nvSpPr>
          <p:spPr>
            <a:xfrm>
              <a:off x="573120" y="3583080"/>
              <a:ext cx="576360" cy="64116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6"/>
            <p:cNvSpPr/>
            <p:nvPr/>
          </p:nvSpPr>
          <p:spPr>
            <a:xfrm>
              <a:off x="1716120" y="1690560"/>
              <a:ext cx="574560" cy="64296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Rectangle 7"/>
            <p:cNvSpPr/>
            <p:nvPr/>
          </p:nvSpPr>
          <p:spPr>
            <a:xfrm>
              <a:off x="2281320" y="1066680"/>
              <a:ext cx="585720" cy="6350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Rectangle 8"/>
            <p:cNvSpPr/>
            <p:nvPr/>
          </p:nvSpPr>
          <p:spPr>
            <a:xfrm>
              <a:off x="1141560" y="3583080"/>
              <a:ext cx="583920" cy="64116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Rectangle 9"/>
            <p:cNvSpPr/>
            <p:nvPr/>
          </p:nvSpPr>
          <p:spPr>
            <a:xfrm>
              <a:off x="2281320" y="1690560"/>
              <a:ext cx="585720" cy="64296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10"/>
            <p:cNvSpPr/>
            <p:nvPr/>
          </p:nvSpPr>
          <p:spPr>
            <a:xfrm>
              <a:off x="1141560" y="2324160"/>
              <a:ext cx="583920" cy="633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11"/>
            <p:cNvSpPr/>
            <p:nvPr/>
          </p:nvSpPr>
          <p:spPr>
            <a:xfrm>
              <a:off x="0" y="2324160"/>
              <a:ext cx="582480" cy="633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12"/>
            <p:cNvSpPr/>
            <p:nvPr/>
          </p:nvSpPr>
          <p:spPr>
            <a:xfrm>
              <a:off x="1716120" y="2324160"/>
              <a:ext cx="574560" cy="633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13"/>
            <p:cNvSpPr/>
            <p:nvPr/>
          </p:nvSpPr>
          <p:spPr>
            <a:xfrm>
              <a:off x="573120" y="2948040"/>
              <a:ext cx="576360" cy="64440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14"/>
            <p:cNvSpPr/>
            <p:nvPr/>
          </p:nvSpPr>
          <p:spPr>
            <a:xfrm>
              <a:off x="1141560" y="2948040"/>
              <a:ext cx="583920" cy="6444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7" name="Picture 20" descr="logocomp"/>
          <p:cNvPicPr/>
          <p:nvPr/>
        </p:nvPicPr>
        <p:blipFill>
          <a:blip r:embed="rId4"/>
          <a:stretch/>
        </p:blipFill>
        <p:spPr>
          <a:xfrm>
            <a:off x="2438280" y="152280"/>
            <a:ext cx="5029200" cy="79236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Arial Black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B0399-5F0D-4E97-B809-8D5CD7B08F77}" type="slidenum">
              <a:rPr b="0" lang="pt-BR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388960" y="1700280"/>
            <a:ext cx="6723000" cy="25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alibri"/>
              </a:rPr>
              <a:t>Agent-based Modeling</a:t>
            </a:r>
            <a:endParaRPr b="1" lang="en-US" sz="4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340000" y="4319640"/>
            <a:ext cx="6804000" cy="227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Pedro R. Andra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AutoShape 5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7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723600" y="357120"/>
            <a:ext cx="822492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  <a:ea typeface="DejaVu Sans"/>
              </a:rPr>
              <a:t>Is it qualitative or quantitative?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19" name="Text Box 2"/>
          <p:cNvSpPr/>
          <p:nvPr/>
        </p:nvSpPr>
        <p:spPr>
          <a:xfrm>
            <a:off x="804960" y="1484280"/>
            <a:ext cx="8088120" cy="42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16080" indent="-316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316080"/>
                <a:tab algn="l" pos="763560"/>
                <a:tab algn="l" pos="1212840"/>
                <a:tab algn="l" pos="1662120"/>
                <a:tab algn="l" pos="2111400"/>
                <a:tab algn="l" pos="2560680"/>
                <a:tab algn="l" pos="3009960"/>
                <a:tab algn="l" pos="3459240"/>
                <a:tab algn="l" pos="3908520"/>
                <a:tab algn="l" pos="4357800"/>
                <a:tab algn="l" pos="4807080"/>
                <a:tab algn="l" pos="5256360"/>
                <a:tab algn="l" pos="5705640"/>
                <a:tab algn="l" pos="6154560"/>
                <a:tab algn="l" pos="6603840"/>
                <a:tab algn="l" pos="7053120"/>
                <a:tab algn="l" pos="7502400"/>
                <a:tab algn="l" pos="7951680"/>
                <a:tab algn="l" pos="8400960"/>
                <a:tab algn="l" pos="8850240"/>
                <a:tab algn="l" pos="929952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gent-based models can handle all types of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6080" indent="-316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316080"/>
                <a:tab algn="l" pos="763560"/>
                <a:tab algn="l" pos="1212840"/>
                <a:tab algn="l" pos="1662120"/>
                <a:tab algn="l" pos="2111400"/>
                <a:tab algn="l" pos="2560680"/>
                <a:tab algn="l" pos="3009960"/>
                <a:tab algn="l" pos="3459240"/>
                <a:tab algn="l" pos="3908520"/>
                <a:tab algn="l" pos="4357800"/>
                <a:tab algn="l" pos="4807080"/>
                <a:tab algn="l" pos="5256360"/>
                <a:tab algn="l" pos="5705640"/>
                <a:tab algn="l" pos="6154560"/>
                <a:tab algn="l" pos="6603840"/>
                <a:tab algn="l" pos="7053120"/>
                <a:tab algn="l" pos="7502400"/>
                <a:tab algn="l" pos="7951680"/>
                <a:tab algn="l" pos="8400960"/>
                <a:tab algn="l" pos="8850240"/>
                <a:tab algn="l" pos="929952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quantitative attrib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3280" indent="-316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316080"/>
                <a:tab algn="l" pos="763560"/>
                <a:tab algn="l" pos="1212840"/>
                <a:tab algn="l" pos="1662120"/>
                <a:tab algn="l" pos="2111400"/>
                <a:tab algn="l" pos="2560680"/>
                <a:tab algn="l" pos="3009960"/>
                <a:tab algn="l" pos="3459240"/>
                <a:tab algn="l" pos="3908520"/>
                <a:tab algn="l" pos="4357800"/>
                <a:tab algn="l" pos="4807080"/>
                <a:tab algn="l" pos="5256360"/>
                <a:tab algn="l" pos="5705640"/>
                <a:tab algn="l" pos="6154560"/>
                <a:tab algn="l" pos="6603840"/>
                <a:tab algn="l" pos="7053120"/>
                <a:tab algn="l" pos="7502400"/>
                <a:tab algn="l" pos="7951680"/>
                <a:tab algn="l" pos="8400960"/>
                <a:tab algn="l" pos="8850240"/>
                <a:tab algn="l" pos="929952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73280" indent="-316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316080"/>
                <a:tab algn="l" pos="763560"/>
                <a:tab algn="l" pos="1212840"/>
                <a:tab algn="l" pos="1662120"/>
                <a:tab algn="l" pos="2111400"/>
                <a:tab algn="l" pos="2560680"/>
                <a:tab algn="l" pos="3009960"/>
                <a:tab algn="l" pos="3459240"/>
                <a:tab algn="l" pos="3908520"/>
                <a:tab algn="l" pos="4357800"/>
                <a:tab algn="l" pos="4807080"/>
                <a:tab algn="l" pos="5256360"/>
                <a:tab algn="l" pos="5705640"/>
                <a:tab algn="l" pos="6154560"/>
                <a:tab algn="l" pos="6603840"/>
                <a:tab algn="l" pos="7053120"/>
                <a:tab algn="l" pos="7502400"/>
                <a:tab algn="l" pos="7951680"/>
                <a:tab algn="l" pos="8400960"/>
                <a:tab algn="l" pos="8850240"/>
                <a:tab algn="l" pos="929952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ze of organ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6080" indent="-316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316080"/>
                <a:tab algn="l" pos="763560"/>
                <a:tab algn="l" pos="1212840"/>
                <a:tab algn="l" pos="1662120"/>
                <a:tab algn="l" pos="2111400"/>
                <a:tab algn="l" pos="2560680"/>
                <a:tab algn="l" pos="3009960"/>
                <a:tab algn="l" pos="3459240"/>
                <a:tab algn="l" pos="3908520"/>
                <a:tab algn="l" pos="4357800"/>
                <a:tab algn="l" pos="4807080"/>
                <a:tab algn="l" pos="5256360"/>
                <a:tab algn="l" pos="5705640"/>
                <a:tab algn="l" pos="6154560"/>
                <a:tab algn="l" pos="6603840"/>
                <a:tab algn="l" pos="7053120"/>
                <a:tab algn="l" pos="7502400"/>
                <a:tab algn="l" pos="7951680"/>
                <a:tab algn="l" pos="8400960"/>
                <a:tab algn="l" pos="8850240"/>
                <a:tab algn="l" pos="929952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qualit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3280" indent="-316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316080"/>
                <a:tab algn="l" pos="763560"/>
                <a:tab algn="l" pos="1212840"/>
                <a:tab algn="l" pos="1662120"/>
                <a:tab algn="l" pos="2111400"/>
                <a:tab algn="l" pos="2560680"/>
                <a:tab algn="l" pos="3009960"/>
                <a:tab algn="l" pos="3459240"/>
                <a:tab algn="l" pos="3908520"/>
                <a:tab algn="l" pos="4357800"/>
                <a:tab algn="l" pos="4807080"/>
                <a:tab algn="l" pos="5256360"/>
                <a:tab algn="l" pos="5705640"/>
                <a:tab algn="l" pos="6154560"/>
                <a:tab algn="l" pos="6603840"/>
                <a:tab algn="l" pos="7053120"/>
                <a:tab algn="l" pos="7502400"/>
                <a:tab algn="l" pos="7951680"/>
                <a:tab algn="l" pos="8400960"/>
                <a:tab algn="l" pos="8850240"/>
                <a:tab algn="l" pos="929952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rdinal or categorical (e.g. ethnicity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73280" indent="-316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316080"/>
                <a:tab algn="l" pos="763560"/>
                <a:tab algn="l" pos="1212840"/>
                <a:tab algn="l" pos="1662120"/>
                <a:tab algn="l" pos="2111400"/>
                <a:tab algn="l" pos="2560680"/>
                <a:tab algn="l" pos="3009960"/>
                <a:tab algn="l" pos="3459240"/>
                <a:tab algn="l" pos="3908520"/>
                <a:tab algn="l" pos="4357800"/>
                <a:tab algn="l" pos="4807080"/>
                <a:tab algn="l" pos="5256360"/>
                <a:tab algn="l" pos="5705640"/>
                <a:tab algn="l" pos="6154560"/>
                <a:tab algn="l" pos="6603840"/>
                <a:tab algn="l" pos="7053120"/>
                <a:tab algn="l" pos="7502400"/>
                <a:tab algn="l" pos="7951680"/>
                <a:tab algn="l" pos="8400960"/>
                <a:tab algn="l" pos="8850240"/>
                <a:tab algn="l" pos="929952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lational (e.g. I am linked to him and h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6080" indent="-316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316080"/>
                <a:tab algn="l" pos="763560"/>
                <a:tab algn="l" pos="1212840"/>
                <a:tab algn="l" pos="1662120"/>
                <a:tab algn="l" pos="2111400"/>
                <a:tab algn="l" pos="2560680"/>
                <a:tab algn="l" pos="3009960"/>
                <a:tab algn="l" pos="3459240"/>
                <a:tab algn="l" pos="3908520"/>
                <a:tab algn="l" pos="4357800"/>
                <a:tab algn="l" pos="4807080"/>
                <a:tab algn="l" pos="5256360"/>
                <a:tab algn="l" pos="5705640"/>
                <a:tab algn="l" pos="6154560"/>
                <a:tab algn="l" pos="6603840"/>
                <a:tab algn="l" pos="7053120"/>
                <a:tab algn="l" pos="7502400"/>
                <a:tab algn="l" pos="7951680"/>
                <a:tab algn="l" pos="8400960"/>
                <a:tab algn="l" pos="8850240"/>
                <a:tab algn="l" pos="929952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ag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3280" indent="-316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316080"/>
                <a:tab algn="l" pos="763560"/>
                <a:tab algn="l" pos="1212840"/>
                <a:tab algn="l" pos="1662120"/>
                <a:tab algn="l" pos="2111400"/>
                <a:tab algn="l" pos="2560680"/>
                <a:tab algn="l" pos="3009960"/>
                <a:tab algn="l" pos="3459240"/>
                <a:tab algn="l" pos="3908520"/>
                <a:tab algn="l" pos="4357800"/>
                <a:tab algn="l" pos="4807080"/>
                <a:tab algn="l" pos="5256360"/>
                <a:tab algn="l" pos="5705640"/>
                <a:tab algn="l" pos="6154560"/>
                <a:tab algn="l" pos="6603840"/>
                <a:tab algn="l" pos="7053120"/>
                <a:tab algn="l" pos="7502400"/>
                <a:tab algn="l" pos="7951680"/>
                <a:tab algn="l" pos="8400960"/>
                <a:tab algn="l" pos="8850240"/>
                <a:tab algn="l" pos="929952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sends B a message about one time in thr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3"/>
          <p:cNvSpPr/>
          <p:nvPr/>
        </p:nvSpPr>
        <p:spPr>
          <a:xfrm>
            <a:off x="6659640" y="6453360"/>
            <a:ext cx="256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ource: (Gilbert, 200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  <a:ea typeface="DejaVu Sans"/>
              </a:rPr>
              <a:t>First agent-based model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609120" y="1523880"/>
            <a:ext cx="835524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velop a model where one single agent walks randomly in a 30x30 cellular spa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  <a:ea typeface="DejaVu Sans"/>
              </a:rPr>
              <a:t>Society of moving agents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609120" y="1523880"/>
            <a:ext cx="835524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velop a model where 20 agents walk randomly in a 30x30 cellular spa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t is not possible to have more than one agent per cel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  <a:ea typeface="DejaVu Sans"/>
              </a:rPr>
              <a:t>Agent-based SIR model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09120" y="1125360"/>
            <a:ext cx="835524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velop an SIR model using an agent-based approa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27" name="Group 2"/>
          <p:cNvGrpSpPr/>
          <p:nvPr/>
        </p:nvGrpSpPr>
        <p:grpSpPr>
          <a:xfrm>
            <a:off x="1025640" y="1849320"/>
            <a:ext cx="7146720" cy="1940040"/>
            <a:chOff x="1025640" y="1849320"/>
            <a:chExt cx="7146720" cy="1940040"/>
          </a:xfrm>
        </p:grpSpPr>
        <p:pic>
          <p:nvPicPr>
            <p:cNvPr id="228" name="Picture 3" descr="image.png"/>
            <p:cNvPicPr/>
            <p:nvPr/>
          </p:nvPicPr>
          <p:blipFill>
            <a:blip r:embed="rId1"/>
            <a:stretch/>
          </p:blipFill>
          <p:spPr>
            <a:xfrm>
              <a:off x="1025640" y="1849320"/>
              <a:ext cx="7146720" cy="194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9" name="Rectangle 4"/>
            <p:cNvSpPr/>
            <p:nvPr/>
          </p:nvSpPr>
          <p:spPr>
            <a:xfrm>
              <a:off x="2911680" y="1849320"/>
              <a:ext cx="576000" cy="646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Rectangle 5"/>
            <p:cNvSpPr/>
            <p:nvPr/>
          </p:nvSpPr>
          <p:spPr>
            <a:xfrm>
              <a:off x="5634000" y="1860120"/>
              <a:ext cx="576000" cy="646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Rectangle 2"/>
          <p:cNvSpPr/>
          <p:nvPr/>
        </p:nvSpPr>
        <p:spPr>
          <a:xfrm>
            <a:off x="611280" y="4235400"/>
            <a:ext cx="835488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Humnst777 BT"/>
              </a:rPr>
              <a:t>Initial stocks:  susceptible = 9998, infected =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Humnst777 BT"/>
              </a:rPr>
              <a:t>dt = 1 wee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Humnst777 BT"/>
              </a:rPr>
              <a:t>Run time = 30 wee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Humnst777 BT"/>
              </a:rPr>
              <a:t>Duration of an infection: 2 wee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90560" indent="-3333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Humnst777 BT"/>
              </a:rPr>
              <a:t>Each infected comes into contact 6 with other peop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Humnst777 BT"/>
              </a:rPr>
              <a:t>25% of the contacts are enough to cause inf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23600" y="357120"/>
            <a:ext cx="822492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66"/>
                </a:solidFill>
                <a:latin typeface="Calibri"/>
                <a:ea typeface="DejaVu Sans"/>
              </a:rPr>
              <a:t>Many many names...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733320" y="1484280"/>
            <a:ext cx="7799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16080" indent="-316080">
              <a:lnSpc>
                <a:spcPct val="15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316080"/>
                <a:tab algn="l" pos="763560"/>
                <a:tab algn="l" pos="1212840"/>
                <a:tab algn="l" pos="1662120"/>
                <a:tab algn="l" pos="2111400"/>
                <a:tab algn="l" pos="2560680"/>
                <a:tab algn="l" pos="3009960"/>
                <a:tab algn="l" pos="3459240"/>
                <a:tab algn="l" pos="3908520"/>
                <a:tab algn="l" pos="4357800"/>
                <a:tab algn="l" pos="4807080"/>
                <a:tab algn="l" pos="5256360"/>
                <a:tab algn="l" pos="5705640"/>
                <a:tab algn="l" pos="6154560"/>
                <a:tab algn="l" pos="6603840"/>
                <a:tab algn="l" pos="7053120"/>
                <a:tab algn="l" pos="7502400"/>
                <a:tab algn="l" pos="7951680"/>
                <a:tab algn="l" pos="8400960"/>
                <a:tab algn="l" pos="8850240"/>
                <a:tab algn="l" pos="929952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gent-based modelling (AB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6080" indent="-316080">
              <a:lnSpc>
                <a:spcPct val="15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316080"/>
                <a:tab algn="l" pos="763560"/>
                <a:tab algn="l" pos="1212840"/>
                <a:tab algn="l" pos="1662120"/>
                <a:tab algn="l" pos="2111400"/>
                <a:tab algn="l" pos="2560680"/>
                <a:tab algn="l" pos="3009960"/>
                <a:tab algn="l" pos="3459240"/>
                <a:tab algn="l" pos="3908520"/>
                <a:tab algn="l" pos="4357800"/>
                <a:tab algn="l" pos="4807080"/>
                <a:tab algn="l" pos="5256360"/>
                <a:tab algn="l" pos="5705640"/>
                <a:tab algn="l" pos="6154560"/>
                <a:tab algn="l" pos="6603840"/>
                <a:tab algn="l" pos="7053120"/>
                <a:tab algn="l" pos="7502400"/>
                <a:tab algn="l" pos="7951680"/>
                <a:tab algn="l" pos="8400960"/>
                <a:tab algn="l" pos="8850240"/>
                <a:tab algn="l" pos="929952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gent-based modelling and simulation (ABM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6080" indent="-316080">
              <a:lnSpc>
                <a:spcPct val="15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316080"/>
                <a:tab algn="l" pos="763560"/>
                <a:tab algn="l" pos="1212840"/>
                <a:tab algn="l" pos="1662120"/>
                <a:tab algn="l" pos="2111400"/>
                <a:tab algn="l" pos="2560680"/>
                <a:tab algn="l" pos="3009960"/>
                <a:tab algn="l" pos="3459240"/>
                <a:tab algn="l" pos="3908520"/>
                <a:tab algn="l" pos="4357800"/>
                <a:tab algn="l" pos="4807080"/>
                <a:tab algn="l" pos="5256360"/>
                <a:tab algn="l" pos="5705640"/>
                <a:tab algn="l" pos="6154560"/>
                <a:tab algn="l" pos="6603840"/>
                <a:tab algn="l" pos="7053120"/>
                <a:tab algn="l" pos="7502400"/>
                <a:tab algn="l" pos="7951680"/>
                <a:tab algn="l" pos="8400960"/>
                <a:tab algn="l" pos="8850240"/>
                <a:tab algn="l" pos="929952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gent-based systems (A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6080" indent="-316080">
              <a:lnSpc>
                <a:spcPct val="15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316080"/>
                <a:tab algn="l" pos="763560"/>
                <a:tab algn="l" pos="1212840"/>
                <a:tab algn="l" pos="1662120"/>
                <a:tab algn="l" pos="2111400"/>
                <a:tab algn="l" pos="2560680"/>
                <a:tab algn="l" pos="3009960"/>
                <a:tab algn="l" pos="3459240"/>
                <a:tab algn="l" pos="3908520"/>
                <a:tab algn="l" pos="4357800"/>
                <a:tab algn="l" pos="4807080"/>
                <a:tab algn="l" pos="5256360"/>
                <a:tab algn="l" pos="5705640"/>
                <a:tab algn="l" pos="6154560"/>
                <a:tab algn="l" pos="6603840"/>
                <a:tab algn="l" pos="7053120"/>
                <a:tab algn="l" pos="7502400"/>
                <a:tab algn="l" pos="7951680"/>
                <a:tab algn="l" pos="8400960"/>
                <a:tab algn="l" pos="8850240"/>
                <a:tab algn="l" pos="929952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ulti-agent systems (MA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6080" indent="-316080">
              <a:lnSpc>
                <a:spcPct val="15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316080"/>
                <a:tab algn="l" pos="763560"/>
                <a:tab algn="l" pos="1212840"/>
                <a:tab algn="l" pos="1662120"/>
                <a:tab algn="l" pos="2111400"/>
                <a:tab algn="l" pos="2560680"/>
                <a:tab algn="l" pos="3009960"/>
                <a:tab algn="l" pos="3459240"/>
                <a:tab algn="l" pos="3908520"/>
                <a:tab algn="l" pos="4357800"/>
                <a:tab algn="l" pos="4807080"/>
                <a:tab algn="l" pos="5256360"/>
                <a:tab algn="l" pos="5705640"/>
                <a:tab algn="l" pos="6154560"/>
                <a:tab algn="l" pos="6603840"/>
                <a:tab algn="l" pos="7053120"/>
                <a:tab algn="l" pos="7502400"/>
                <a:tab algn="l" pos="7951680"/>
                <a:tab algn="l" pos="8400960"/>
                <a:tab algn="l" pos="8850240"/>
                <a:tab algn="l" pos="929952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ulti-agent simulation (MA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6080" indent="-316080">
              <a:lnSpc>
                <a:spcPct val="15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316080"/>
                <a:tab algn="l" pos="763560"/>
                <a:tab algn="l" pos="1212840"/>
                <a:tab algn="l" pos="1662120"/>
                <a:tab algn="l" pos="2111400"/>
                <a:tab algn="l" pos="2560680"/>
                <a:tab algn="l" pos="3009960"/>
                <a:tab algn="l" pos="3459240"/>
                <a:tab algn="l" pos="3908520"/>
                <a:tab algn="l" pos="4357800"/>
                <a:tab algn="l" pos="4807080"/>
                <a:tab algn="l" pos="5256360"/>
                <a:tab algn="l" pos="5705640"/>
                <a:tab algn="l" pos="6154560"/>
                <a:tab algn="l" pos="6603840"/>
                <a:tab algn="l" pos="7053120"/>
                <a:tab algn="l" pos="7502400"/>
                <a:tab algn="l" pos="7951680"/>
                <a:tab algn="l" pos="8400960"/>
                <a:tab algn="l" pos="8850240"/>
                <a:tab algn="l" pos="929952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Individual-based modelling (IB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6080" indent="-316080">
              <a:lnSpc>
                <a:spcPct val="15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316080"/>
                <a:tab algn="l" pos="763560"/>
                <a:tab algn="l" pos="1212840"/>
                <a:tab algn="l" pos="1662120"/>
                <a:tab algn="l" pos="2111400"/>
                <a:tab algn="l" pos="2560680"/>
                <a:tab algn="l" pos="3009960"/>
                <a:tab algn="l" pos="3459240"/>
                <a:tab algn="l" pos="3908520"/>
                <a:tab algn="l" pos="4357800"/>
                <a:tab algn="l" pos="4807080"/>
                <a:tab algn="l" pos="5256360"/>
                <a:tab algn="l" pos="5705640"/>
                <a:tab algn="l" pos="6154560"/>
                <a:tab algn="l" pos="6603840"/>
                <a:tab algn="l" pos="7053120"/>
                <a:tab algn="l" pos="7502400"/>
                <a:tab algn="l" pos="7951680"/>
                <a:tab algn="l" pos="8400960"/>
                <a:tab algn="l" pos="8850240"/>
                <a:tab algn="l" pos="929952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23600" y="357120"/>
            <a:ext cx="822492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  <a:ea typeface="DejaVu Sans"/>
              </a:rPr>
              <a:t>It has been used in different areas of science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13" name="Text Box 2"/>
          <p:cNvSpPr/>
          <p:nvPr/>
        </p:nvSpPr>
        <p:spPr>
          <a:xfrm>
            <a:off x="733320" y="1484280"/>
            <a:ext cx="7799400" cy="446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12840" indent="-312840">
              <a:lnSpc>
                <a:spcPct val="15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316080"/>
                <a:tab algn="l" pos="763560"/>
                <a:tab algn="l" pos="1212840"/>
                <a:tab algn="l" pos="1662120"/>
                <a:tab algn="l" pos="2111400"/>
                <a:tab algn="l" pos="2560680"/>
                <a:tab algn="l" pos="3009960"/>
                <a:tab algn="l" pos="3459240"/>
                <a:tab algn="l" pos="3908520"/>
                <a:tab algn="l" pos="4357800"/>
                <a:tab algn="l" pos="4807080"/>
                <a:tab algn="l" pos="5256360"/>
                <a:tab algn="l" pos="5705640"/>
                <a:tab algn="l" pos="6154560"/>
                <a:tab algn="l" pos="6603840"/>
                <a:tab algn="l" pos="7053120"/>
                <a:tab algn="l" pos="7502400"/>
                <a:tab algn="l" pos="7951680"/>
                <a:tab algn="l" pos="8400960"/>
                <a:tab algn="l" pos="8850240"/>
                <a:tab algn="l" pos="929952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conom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840" indent="-312840">
              <a:lnSpc>
                <a:spcPct val="15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316080"/>
                <a:tab algn="l" pos="763560"/>
                <a:tab algn="l" pos="1212840"/>
                <a:tab algn="l" pos="1662120"/>
                <a:tab algn="l" pos="2111400"/>
                <a:tab algn="l" pos="2560680"/>
                <a:tab algn="l" pos="3009960"/>
                <a:tab algn="l" pos="3459240"/>
                <a:tab algn="l" pos="3908520"/>
                <a:tab algn="l" pos="4357800"/>
                <a:tab algn="l" pos="4807080"/>
                <a:tab algn="l" pos="5256360"/>
                <a:tab algn="l" pos="5705640"/>
                <a:tab algn="l" pos="6154560"/>
                <a:tab algn="l" pos="6603840"/>
                <a:tab algn="l" pos="7053120"/>
                <a:tab algn="l" pos="7502400"/>
                <a:tab algn="l" pos="7951680"/>
                <a:tab algn="l" pos="8400960"/>
                <a:tab algn="l" pos="8850240"/>
                <a:tab algn="l" pos="929952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oci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840" indent="-312840">
              <a:lnSpc>
                <a:spcPct val="15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316080"/>
                <a:tab algn="l" pos="763560"/>
                <a:tab algn="l" pos="1212840"/>
                <a:tab algn="l" pos="1662120"/>
                <a:tab algn="l" pos="2111400"/>
                <a:tab algn="l" pos="2560680"/>
                <a:tab algn="l" pos="3009960"/>
                <a:tab algn="l" pos="3459240"/>
                <a:tab algn="l" pos="3908520"/>
                <a:tab algn="l" pos="4357800"/>
                <a:tab algn="l" pos="4807080"/>
                <a:tab algn="l" pos="5256360"/>
                <a:tab algn="l" pos="5705640"/>
                <a:tab algn="l" pos="6154560"/>
                <a:tab algn="l" pos="6603840"/>
                <a:tab algn="l" pos="7053120"/>
                <a:tab algn="l" pos="7502400"/>
                <a:tab algn="l" pos="7951680"/>
                <a:tab algn="l" pos="8400960"/>
                <a:tab algn="l" pos="8850240"/>
                <a:tab algn="l" pos="929952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rchae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840" indent="-312840">
              <a:lnSpc>
                <a:spcPct val="15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316080"/>
                <a:tab algn="l" pos="763560"/>
                <a:tab algn="l" pos="1212840"/>
                <a:tab algn="l" pos="1662120"/>
                <a:tab algn="l" pos="2111400"/>
                <a:tab algn="l" pos="2560680"/>
                <a:tab algn="l" pos="3009960"/>
                <a:tab algn="l" pos="3459240"/>
                <a:tab algn="l" pos="3908520"/>
                <a:tab algn="l" pos="4357800"/>
                <a:tab algn="l" pos="4807080"/>
                <a:tab algn="l" pos="5256360"/>
                <a:tab algn="l" pos="5705640"/>
                <a:tab algn="l" pos="6154560"/>
                <a:tab algn="l" pos="6603840"/>
                <a:tab algn="l" pos="7053120"/>
                <a:tab algn="l" pos="7502400"/>
                <a:tab algn="l" pos="7951680"/>
                <a:tab algn="l" pos="8400960"/>
                <a:tab algn="l" pos="8850240"/>
                <a:tab algn="l" pos="929952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c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840" indent="-312840">
              <a:lnSpc>
                <a:spcPct val="15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316080"/>
                <a:tab algn="l" pos="763560"/>
                <a:tab algn="l" pos="1212840"/>
                <a:tab algn="l" pos="1662120"/>
                <a:tab algn="l" pos="2111400"/>
                <a:tab algn="l" pos="2560680"/>
                <a:tab algn="l" pos="3009960"/>
                <a:tab algn="l" pos="3459240"/>
                <a:tab algn="l" pos="3908520"/>
                <a:tab algn="l" pos="4357800"/>
                <a:tab algn="l" pos="4807080"/>
                <a:tab algn="l" pos="5256360"/>
                <a:tab algn="l" pos="5705640"/>
                <a:tab algn="l" pos="6154560"/>
                <a:tab algn="l" pos="6603840"/>
                <a:tab algn="l" pos="7053120"/>
                <a:tab algn="l" pos="7502400"/>
                <a:tab algn="l" pos="7951680"/>
                <a:tab algn="l" pos="8400960"/>
                <a:tab algn="l" pos="8850240"/>
                <a:tab algn="l" pos="929952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ingu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840" indent="-312840">
              <a:lnSpc>
                <a:spcPct val="15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316080"/>
                <a:tab algn="l" pos="763560"/>
                <a:tab algn="l" pos="1212840"/>
                <a:tab algn="l" pos="1662120"/>
                <a:tab algn="l" pos="2111400"/>
                <a:tab algn="l" pos="2560680"/>
                <a:tab algn="l" pos="3009960"/>
                <a:tab algn="l" pos="3459240"/>
                <a:tab algn="l" pos="3908520"/>
                <a:tab algn="l" pos="4357800"/>
                <a:tab algn="l" pos="4807080"/>
                <a:tab algn="l" pos="5256360"/>
                <a:tab algn="l" pos="5705640"/>
                <a:tab algn="l" pos="6154560"/>
                <a:tab algn="l" pos="6603840"/>
                <a:tab algn="l" pos="7053120"/>
                <a:tab algn="l" pos="7502400"/>
                <a:tab algn="l" pos="7951680"/>
                <a:tab algn="l" pos="8400960"/>
                <a:tab algn="l" pos="8850240"/>
                <a:tab algn="l" pos="929952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olitical sci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840" indent="-312840">
              <a:lnSpc>
                <a:spcPct val="15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316080"/>
                <a:tab algn="l" pos="763560"/>
                <a:tab algn="l" pos="1212840"/>
                <a:tab algn="l" pos="1662120"/>
                <a:tab algn="l" pos="2111400"/>
                <a:tab algn="l" pos="2560680"/>
                <a:tab algn="l" pos="3009960"/>
                <a:tab algn="l" pos="3459240"/>
                <a:tab algn="l" pos="3908520"/>
                <a:tab algn="l" pos="4357800"/>
                <a:tab algn="l" pos="4807080"/>
                <a:tab algn="l" pos="5256360"/>
                <a:tab algn="l" pos="5705640"/>
                <a:tab algn="l" pos="6154560"/>
                <a:tab algn="l" pos="6603840"/>
                <a:tab algn="l" pos="7053120"/>
                <a:tab algn="l" pos="7502400"/>
                <a:tab algn="l" pos="7951680"/>
                <a:tab algn="l" pos="8400960"/>
                <a:tab algn="l" pos="8850240"/>
                <a:tab algn="l" pos="929952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6" descr=""/>
          <p:cNvPicPr/>
          <p:nvPr/>
        </p:nvPicPr>
        <p:blipFill>
          <a:blip r:embed="rId1"/>
          <a:stretch/>
        </p:blipFill>
        <p:spPr>
          <a:xfrm>
            <a:off x="3854520" y="1341360"/>
            <a:ext cx="5254560" cy="489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50960" y="345960"/>
            <a:ext cx="7880400" cy="7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66"/>
                </a:solidFill>
                <a:latin typeface="Calibri"/>
                <a:ea typeface="DejaVu Sans"/>
              </a:rPr>
              <a:t>Agent-based modelling (ABM)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16" name="Text Box 2"/>
          <p:cNvSpPr/>
          <p:nvPr/>
        </p:nvSpPr>
        <p:spPr>
          <a:xfrm>
            <a:off x="852480" y="2997360"/>
            <a:ext cx="4006800" cy="12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290520" indent="-2905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316080"/>
                <a:tab algn="l" pos="763560"/>
                <a:tab algn="l" pos="1212840"/>
                <a:tab algn="l" pos="1662120"/>
                <a:tab algn="l" pos="2111400"/>
                <a:tab algn="l" pos="2560680"/>
                <a:tab algn="l" pos="3009960"/>
                <a:tab algn="l" pos="3459240"/>
                <a:tab algn="l" pos="3908520"/>
                <a:tab algn="l" pos="4357800"/>
                <a:tab algn="l" pos="4807080"/>
                <a:tab algn="l" pos="5256360"/>
                <a:tab algn="l" pos="5705640"/>
                <a:tab algn="l" pos="6154560"/>
                <a:tab algn="l" pos="6603840"/>
                <a:tab algn="l" pos="7053120"/>
                <a:tab algn="l" pos="7502400"/>
                <a:tab algn="l" pos="7951680"/>
                <a:tab algn="l" pos="8400960"/>
                <a:tab algn="l" pos="8850240"/>
                <a:tab algn="l" pos="929952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flex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316080"/>
                <a:tab algn="l" pos="763560"/>
                <a:tab algn="l" pos="1212840"/>
                <a:tab algn="l" pos="1662120"/>
                <a:tab algn="l" pos="2111400"/>
                <a:tab algn="l" pos="2560680"/>
                <a:tab algn="l" pos="3009960"/>
                <a:tab algn="l" pos="3459240"/>
                <a:tab algn="l" pos="3908520"/>
                <a:tab algn="l" pos="4357800"/>
                <a:tab algn="l" pos="4807080"/>
                <a:tab algn="l" pos="5256360"/>
                <a:tab algn="l" pos="5705640"/>
                <a:tab algn="l" pos="6154560"/>
                <a:tab algn="l" pos="6603840"/>
                <a:tab algn="l" pos="7053120"/>
                <a:tab algn="l" pos="7502400"/>
                <a:tab algn="l" pos="7951680"/>
                <a:tab algn="l" pos="8400960"/>
                <a:tab algn="l" pos="8850240"/>
                <a:tab algn="l" pos="929952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natural appro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316080"/>
                <a:tab algn="l" pos="763560"/>
                <a:tab algn="l" pos="1212840"/>
                <a:tab algn="l" pos="1662120"/>
                <a:tab algn="l" pos="2111400"/>
                <a:tab algn="l" pos="2560680"/>
                <a:tab algn="l" pos="3009960"/>
                <a:tab algn="l" pos="3459240"/>
                <a:tab algn="l" pos="3908520"/>
                <a:tab algn="l" pos="4357800"/>
                <a:tab algn="l" pos="4807080"/>
                <a:tab algn="l" pos="5256360"/>
                <a:tab algn="l" pos="5705640"/>
                <a:tab algn="l" pos="6154560"/>
                <a:tab algn="l" pos="6603840"/>
                <a:tab algn="l" pos="7053120"/>
                <a:tab algn="l" pos="7502400"/>
                <a:tab algn="l" pos="7951680"/>
                <a:tab algn="l" pos="8400960"/>
                <a:tab algn="l" pos="8850240"/>
                <a:tab algn="l" pos="929952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emerg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3"/>
          <p:cNvSpPr/>
          <p:nvPr/>
        </p:nvSpPr>
        <p:spPr>
          <a:xfrm>
            <a:off x="755640" y="1125360"/>
            <a:ext cx="8388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16080" indent="-316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16080"/>
                <a:tab algn="l" pos="763560"/>
                <a:tab algn="l" pos="1212840"/>
                <a:tab algn="l" pos="1662120"/>
                <a:tab algn="l" pos="2111400"/>
                <a:tab algn="l" pos="2560680"/>
                <a:tab algn="l" pos="3009960"/>
                <a:tab algn="l" pos="3459240"/>
                <a:tab algn="l" pos="3908520"/>
                <a:tab algn="l" pos="4357800"/>
                <a:tab algn="l" pos="4807080"/>
                <a:tab algn="l" pos="5256360"/>
                <a:tab algn="l" pos="5705640"/>
                <a:tab algn="l" pos="6154560"/>
                <a:tab algn="l" pos="6603840"/>
                <a:tab algn="l" pos="7053120"/>
                <a:tab algn="l" pos="7502400"/>
                <a:tab algn="l" pos="7951680"/>
                <a:tab algn="l" pos="8400960"/>
                <a:tab algn="l" pos="8850240"/>
                <a:tab algn="l" pos="929952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Bottom-up approach for building complex systems, through the dynamical interaction of agent</a:t>
            </a:r>
            <a:r>
              <a:rPr b="0" i="1" lang="en-GB" sz="2400" spc="-1" strike="noStrike">
                <a:solidFill>
                  <a:srgbClr val="000000"/>
                </a:solidFill>
                <a:latin typeface="Verdana"/>
              </a:rPr>
              <a:t>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5" descr=""/>
          <p:cNvPicPr/>
          <p:nvPr/>
        </p:nvPicPr>
        <p:blipFill>
          <a:blip r:embed="rId1"/>
          <a:stretch/>
        </p:blipFill>
        <p:spPr>
          <a:xfrm>
            <a:off x="4572000" y="1989000"/>
            <a:ext cx="3919680" cy="352764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4"/>
          <p:cNvSpPr/>
          <p:nvPr/>
        </p:nvSpPr>
        <p:spPr>
          <a:xfrm>
            <a:off x="755640" y="5654520"/>
            <a:ext cx="8388360" cy="12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16080" indent="-316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16080"/>
                <a:tab algn="l" pos="763560"/>
                <a:tab algn="l" pos="1212840"/>
                <a:tab algn="l" pos="1662120"/>
                <a:tab algn="l" pos="2111400"/>
                <a:tab algn="l" pos="2560680"/>
                <a:tab algn="l" pos="3009960"/>
                <a:tab algn="l" pos="3459240"/>
                <a:tab algn="l" pos="3908520"/>
                <a:tab algn="l" pos="4357800"/>
                <a:tab algn="l" pos="4807080"/>
                <a:tab algn="l" pos="5256360"/>
                <a:tab algn="l" pos="5705640"/>
                <a:tab algn="l" pos="6154560"/>
                <a:tab algn="l" pos="6603840"/>
                <a:tab algn="l" pos="7053120"/>
                <a:tab algn="l" pos="7502400"/>
                <a:tab algn="l" pos="7951680"/>
                <a:tab algn="l" pos="8400960"/>
                <a:tab algn="l" pos="8850240"/>
                <a:tab algn="l" pos="929952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n agent is any actor within an environment, any entity that can affect itself, the environment and other ag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85880" y="500040"/>
            <a:ext cx="72151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  <a:ea typeface="Geneva"/>
              </a:rPr>
              <a:t>Four types of agents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pic>
        <p:nvPicPr>
          <p:cNvPr id="121" name="Picture 9" descr=""/>
          <p:cNvPicPr/>
          <p:nvPr/>
        </p:nvPicPr>
        <p:blipFill>
          <a:blip r:embed="rId1"/>
          <a:stretch/>
        </p:blipFill>
        <p:spPr>
          <a:xfrm>
            <a:off x="4857840" y="1000080"/>
            <a:ext cx="3500280" cy="21924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2" descr=""/>
          <p:cNvPicPr/>
          <p:nvPr/>
        </p:nvPicPr>
        <p:blipFill>
          <a:blip r:embed="rId2"/>
          <a:stretch/>
        </p:blipFill>
        <p:spPr>
          <a:xfrm>
            <a:off x="785880" y="3857760"/>
            <a:ext cx="3429000" cy="20714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5" descr=""/>
          <p:cNvPicPr/>
          <p:nvPr/>
        </p:nvPicPr>
        <p:blipFill>
          <a:blip r:embed="rId3"/>
          <a:stretch/>
        </p:blipFill>
        <p:spPr>
          <a:xfrm>
            <a:off x="4929120" y="3786120"/>
            <a:ext cx="3500640" cy="21337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4" descr=""/>
          <p:cNvPicPr/>
          <p:nvPr/>
        </p:nvPicPr>
        <p:blipFill>
          <a:blip r:embed="rId4"/>
          <a:stretch/>
        </p:blipFill>
        <p:spPr>
          <a:xfrm>
            <a:off x="714240" y="1071720"/>
            <a:ext cx="3500640" cy="228600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7"/>
          <p:cNvSpPr/>
          <p:nvPr/>
        </p:nvSpPr>
        <p:spPr>
          <a:xfrm>
            <a:off x="648000" y="6000840"/>
            <a:ext cx="3656880" cy="368280"/>
          </a:xfrm>
          <a:prstGeom prst="rect">
            <a:avLst/>
          </a:prstGeom>
          <a:solidFill>
            <a:srgbClr val="d0d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5e"/>
                </a:solidFill>
                <a:latin typeface="Calibri"/>
                <a:ea typeface="Arial"/>
              </a:rPr>
              <a:t>Natural agents, artificial enviro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7"/>
          <p:cNvSpPr/>
          <p:nvPr/>
        </p:nvSpPr>
        <p:spPr>
          <a:xfrm>
            <a:off x="649440" y="3357720"/>
            <a:ext cx="3731760" cy="368280"/>
          </a:xfrm>
          <a:prstGeom prst="rect">
            <a:avLst/>
          </a:prstGeom>
          <a:solidFill>
            <a:srgbClr val="d0d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5e"/>
                </a:solidFill>
                <a:latin typeface="Calibri"/>
                <a:ea typeface="Arial"/>
              </a:rPr>
              <a:t>Artificial agents, artificial enviro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7"/>
          <p:cNvSpPr/>
          <p:nvPr/>
        </p:nvSpPr>
        <p:spPr>
          <a:xfrm>
            <a:off x="4857840" y="3286080"/>
            <a:ext cx="3657600" cy="368280"/>
          </a:xfrm>
          <a:prstGeom prst="rect">
            <a:avLst/>
          </a:prstGeom>
          <a:solidFill>
            <a:srgbClr val="d0d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5e"/>
                </a:solidFill>
                <a:latin typeface="Calibri"/>
                <a:ea typeface="Arial"/>
              </a:rPr>
              <a:t>Artificial agents, natural enviro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7"/>
          <p:cNvSpPr/>
          <p:nvPr/>
        </p:nvSpPr>
        <p:spPr>
          <a:xfrm>
            <a:off x="4932000" y="6000840"/>
            <a:ext cx="3600720" cy="368280"/>
          </a:xfrm>
          <a:prstGeom prst="rect">
            <a:avLst/>
          </a:prstGeom>
          <a:solidFill>
            <a:srgbClr val="d0d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5e"/>
                </a:solidFill>
                <a:latin typeface="Calibri"/>
                <a:ea typeface="Arial"/>
              </a:rPr>
              <a:t>Natural Agents, natural enviro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429240" y="6519960"/>
            <a:ext cx="2714760" cy="337320"/>
          </a:xfrm>
          <a:prstGeom prst="rect">
            <a:avLst/>
          </a:prstGeom>
          <a:solidFill>
            <a:srgbClr val="cccc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5e"/>
                </a:solidFill>
                <a:latin typeface="Calibri"/>
                <a:ea typeface="Arial"/>
              </a:rPr>
              <a:t>fonte: Helen Couclelis (UCS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85880" y="500040"/>
            <a:ext cx="72151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  <a:ea typeface="Geneva"/>
              </a:rPr>
              <a:t>Four types of agents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pic>
        <p:nvPicPr>
          <p:cNvPr id="131" name="Picture 9" descr=""/>
          <p:cNvPicPr/>
          <p:nvPr/>
        </p:nvPicPr>
        <p:blipFill>
          <a:blip r:embed="rId1"/>
          <a:stretch/>
        </p:blipFill>
        <p:spPr>
          <a:xfrm>
            <a:off x="4857840" y="1000080"/>
            <a:ext cx="3500280" cy="21924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2" descr=""/>
          <p:cNvPicPr/>
          <p:nvPr/>
        </p:nvPicPr>
        <p:blipFill>
          <a:blip r:embed="rId2"/>
          <a:stretch/>
        </p:blipFill>
        <p:spPr>
          <a:xfrm>
            <a:off x="785880" y="3857760"/>
            <a:ext cx="3429000" cy="20714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5" descr=""/>
          <p:cNvPicPr/>
          <p:nvPr/>
        </p:nvPicPr>
        <p:blipFill>
          <a:blip r:embed="rId3"/>
          <a:stretch/>
        </p:blipFill>
        <p:spPr>
          <a:xfrm>
            <a:off x="4929120" y="3786120"/>
            <a:ext cx="3500640" cy="21337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4" descr=""/>
          <p:cNvPicPr/>
          <p:nvPr/>
        </p:nvPicPr>
        <p:blipFill>
          <a:blip r:embed="rId4"/>
          <a:stretch/>
        </p:blipFill>
        <p:spPr>
          <a:xfrm>
            <a:off x="714240" y="1071720"/>
            <a:ext cx="3500640" cy="2286000"/>
          </a:xfrm>
          <a:prstGeom prst="rect">
            <a:avLst/>
          </a:prstGeom>
          <a:ln w="0">
            <a:noFill/>
          </a:ln>
        </p:spPr>
      </p:pic>
      <p:sp>
        <p:nvSpPr>
          <p:cNvPr id="135" name="Rectangle 7"/>
          <p:cNvSpPr/>
          <p:nvPr/>
        </p:nvSpPr>
        <p:spPr>
          <a:xfrm>
            <a:off x="648000" y="6000840"/>
            <a:ext cx="3656880" cy="368280"/>
          </a:xfrm>
          <a:prstGeom prst="rect">
            <a:avLst/>
          </a:prstGeom>
          <a:solidFill>
            <a:srgbClr val="d0d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5e"/>
                </a:solidFill>
                <a:latin typeface="Calibri"/>
                <a:ea typeface="Arial"/>
              </a:rPr>
              <a:t>Natural agents, artificial enviro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7"/>
          <p:cNvSpPr/>
          <p:nvPr/>
        </p:nvSpPr>
        <p:spPr>
          <a:xfrm>
            <a:off x="649440" y="3357720"/>
            <a:ext cx="3731760" cy="368280"/>
          </a:xfrm>
          <a:prstGeom prst="rect">
            <a:avLst/>
          </a:prstGeom>
          <a:solidFill>
            <a:srgbClr val="d0d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5e"/>
                </a:solidFill>
                <a:latin typeface="Calibri"/>
                <a:ea typeface="Arial"/>
              </a:rPr>
              <a:t>Artificial agents, artificial enviro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7"/>
          <p:cNvSpPr/>
          <p:nvPr/>
        </p:nvSpPr>
        <p:spPr>
          <a:xfrm>
            <a:off x="4857840" y="3286080"/>
            <a:ext cx="3657600" cy="368280"/>
          </a:xfrm>
          <a:prstGeom prst="rect">
            <a:avLst/>
          </a:prstGeom>
          <a:solidFill>
            <a:srgbClr val="d0d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5e"/>
                </a:solidFill>
                <a:latin typeface="Calibri"/>
                <a:ea typeface="Arial"/>
              </a:rPr>
              <a:t>Artificial agents, natural enviro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4932000" y="6000840"/>
            <a:ext cx="3600720" cy="368280"/>
          </a:xfrm>
          <a:prstGeom prst="rect">
            <a:avLst/>
          </a:prstGeom>
          <a:solidFill>
            <a:srgbClr val="d0d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5e"/>
                </a:solidFill>
                <a:latin typeface="Calibri"/>
                <a:ea typeface="Arial"/>
              </a:rPr>
              <a:t>Natural Agents, natural enviro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6"/>
          <p:cNvSpPr/>
          <p:nvPr/>
        </p:nvSpPr>
        <p:spPr>
          <a:xfrm>
            <a:off x="6429240" y="6519960"/>
            <a:ext cx="2714760" cy="337320"/>
          </a:xfrm>
          <a:prstGeom prst="rect">
            <a:avLst/>
          </a:prstGeom>
          <a:solidFill>
            <a:srgbClr val="cccc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5e"/>
                </a:solidFill>
                <a:latin typeface="Calibri"/>
                <a:ea typeface="Arial"/>
              </a:rPr>
              <a:t>fonte: Helen Couclelis (UCS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2"/>
          <p:cNvSpPr/>
          <p:nvPr/>
        </p:nvSpPr>
        <p:spPr>
          <a:xfrm>
            <a:off x="1555200" y="1125360"/>
            <a:ext cx="1145520" cy="398880"/>
          </a:xfrm>
          <a:prstGeom prst="rect">
            <a:avLst/>
          </a:prstGeom>
          <a:solidFill>
            <a:srgbClr val="c8d8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3f"/>
                </a:solidFill>
                <a:latin typeface="Calibri"/>
                <a:ea typeface="Calibri"/>
              </a:rPr>
              <a:t>e-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3"/>
          <p:cNvSpPr/>
          <p:nvPr/>
        </p:nvSpPr>
        <p:spPr>
          <a:xfrm>
            <a:off x="5148360" y="1052640"/>
            <a:ext cx="2952720" cy="398880"/>
          </a:xfrm>
          <a:prstGeom prst="rect">
            <a:avLst/>
          </a:prstGeom>
          <a:solidFill>
            <a:srgbClr val="c8d8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3f"/>
                </a:solidFill>
                <a:latin typeface="Calibri"/>
                <a:ea typeface="Calibri"/>
              </a:rPr>
              <a:t>Engineering Appl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4"/>
          <p:cNvSpPr/>
          <p:nvPr/>
        </p:nvSpPr>
        <p:spPr>
          <a:xfrm>
            <a:off x="1411200" y="3860640"/>
            <a:ext cx="1469880" cy="703800"/>
          </a:xfrm>
          <a:prstGeom prst="rect">
            <a:avLst/>
          </a:prstGeom>
          <a:solidFill>
            <a:srgbClr val="c8d8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3f"/>
                </a:solidFill>
                <a:latin typeface="Calibri"/>
                <a:ea typeface="Calibri"/>
              </a:rPr>
              <a:t>Behavio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3f"/>
                </a:solidFill>
                <a:latin typeface="Calibri"/>
                <a:ea typeface="Calibri"/>
              </a:rPr>
              <a:t>Experi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5"/>
          <p:cNvSpPr/>
          <p:nvPr/>
        </p:nvSpPr>
        <p:spPr>
          <a:xfrm>
            <a:off x="5364000" y="3933720"/>
            <a:ext cx="2880000" cy="398880"/>
          </a:xfrm>
          <a:prstGeom prst="rect">
            <a:avLst/>
          </a:prstGeom>
          <a:solidFill>
            <a:srgbClr val="c8d8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3f"/>
                </a:solidFill>
                <a:latin typeface="Calibri"/>
                <a:ea typeface="Calibri"/>
              </a:rPr>
              <a:t>Descriptive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66"/>
                </a:solidFill>
                <a:latin typeface="Calibri"/>
                <a:ea typeface="DejaVu Sans"/>
              </a:rPr>
              <a:t>Agent-Based Modelling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45" name="Text Box 9"/>
          <p:cNvSpPr/>
          <p:nvPr/>
        </p:nvSpPr>
        <p:spPr>
          <a:xfrm>
            <a:off x="2561760" y="3016080"/>
            <a:ext cx="63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7000" algn="ctr">
              <a:lnSpc>
                <a:spcPts val="2160"/>
              </a:lnSpc>
              <a:tabLst>
                <a:tab algn="l" pos="0"/>
                <a:tab algn="l" pos="9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o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" algn="ctr">
              <a:lnSpc>
                <a:spcPts val="2160"/>
              </a:lnSpc>
              <a:tabLst>
                <a:tab algn="l" pos="0"/>
                <a:tab algn="l" pos="9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Group 10"/>
          <p:cNvGrpSpPr/>
          <p:nvPr/>
        </p:nvGrpSpPr>
        <p:grpSpPr>
          <a:xfrm>
            <a:off x="625320" y="2817720"/>
            <a:ext cx="8518320" cy="3451320"/>
            <a:chOff x="625320" y="2817720"/>
            <a:chExt cx="8518320" cy="3451320"/>
          </a:xfrm>
        </p:grpSpPr>
        <p:grpSp>
          <p:nvGrpSpPr>
            <p:cNvPr id="147" name="Group 11"/>
            <p:cNvGrpSpPr/>
            <p:nvPr/>
          </p:nvGrpSpPr>
          <p:grpSpPr>
            <a:xfrm>
              <a:off x="625320" y="2817720"/>
              <a:ext cx="8518320" cy="3056040"/>
              <a:chOff x="625320" y="2817720"/>
              <a:chExt cx="8518320" cy="3056040"/>
            </a:xfrm>
          </p:grpSpPr>
          <p:sp>
            <p:nvSpPr>
              <p:cNvPr id="148" name="Freeform 12"/>
              <p:cNvSpPr/>
              <p:nvPr/>
            </p:nvSpPr>
            <p:spPr>
              <a:xfrm>
                <a:off x="625320" y="2817720"/>
                <a:ext cx="8505720" cy="3041640"/>
              </a:xfrm>
              <a:custGeom>
                <a:avLst/>
                <a:gdLst>
                  <a:gd name="textAreaLeft" fmla="*/ 0 w 8505720"/>
                  <a:gd name="textAreaRight" fmla="*/ 8506080 w 8505720"/>
                  <a:gd name="textAreaTop" fmla="*/ 0 h 3041640"/>
                  <a:gd name="textAreaBottom" fmla="*/ 3042000 h 3041640"/>
                </a:gdLst>
                <a:ahLst/>
                <a:rect l="textAreaLeft" t="textAreaTop" r="textAreaRight" b="textAreaBottom"/>
                <a:pathLst>
                  <a:path w="10000" h="10000">
                    <a:moveTo>
                      <a:pt x="0" y="10000"/>
                    </a:moveTo>
                    <a:lnTo>
                      <a:pt x="3669" y="0"/>
                    </a:lnTo>
                    <a:lnTo>
                      <a:pt x="10000" y="0"/>
                    </a:lnTo>
                    <a:lnTo>
                      <a:pt x="6330" y="10000"/>
                    </a:lnTo>
                    <a:lnTo>
                      <a:pt x="0" y="10000"/>
                    </a:lnTo>
                  </a:path>
                </a:pathLst>
              </a:custGeom>
              <a:gradFill rotWithShape="0">
                <a:gsLst>
                  <a:gs pos="0">
                    <a:srgbClr val="e2bdff"/>
                  </a:gs>
                  <a:gs pos="100000">
                    <a:srgbClr val="fdf9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Freeform 13"/>
              <p:cNvSpPr/>
              <p:nvPr/>
            </p:nvSpPr>
            <p:spPr>
              <a:xfrm>
                <a:off x="625320" y="2819520"/>
                <a:ext cx="8518320" cy="3054240"/>
              </a:xfrm>
              <a:custGeom>
                <a:avLst/>
                <a:gdLst>
                  <a:gd name="textAreaLeft" fmla="*/ 0 w 8518320"/>
                  <a:gd name="textAreaRight" fmla="*/ 8518680 w 8518320"/>
                  <a:gd name="textAreaTop" fmla="*/ 0 h 3054240"/>
                  <a:gd name="textAreaBottom" fmla="*/ 3054600 h 3054240"/>
                </a:gdLst>
                <a:ahLst/>
                <a:rect l="textAreaLeft" t="textAreaTop" r="textAreaRight" b="textAreaBottom"/>
                <a:pathLst>
                  <a:path w="10000" h="10000">
                    <a:moveTo>
                      <a:pt x="0" y="10000"/>
                    </a:moveTo>
                    <a:lnTo>
                      <a:pt x="3670" y="0"/>
                    </a:lnTo>
                    <a:lnTo>
                      <a:pt x="10000" y="0"/>
                    </a:lnTo>
                    <a:lnTo>
                      <a:pt x="6329" y="10000"/>
                    </a:lnTo>
                    <a:lnTo>
                      <a:pt x="0" y="1000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0" name="Group 14"/>
            <p:cNvGrpSpPr/>
            <p:nvPr/>
          </p:nvGrpSpPr>
          <p:grpSpPr>
            <a:xfrm>
              <a:off x="1695240" y="5445000"/>
              <a:ext cx="2043000" cy="824040"/>
              <a:chOff x="1695240" y="5445000"/>
              <a:chExt cx="2043000" cy="824040"/>
            </a:xfrm>
          </p:grpSpPr>
          <p:sp>
            <p:nvSpPr>
              <p:cNvPr id="151" name="Freeform 15"/>
              <p:cNvSpPr/>
              <p:nvPr/>
            </p:nvSpPr>
            <p:spPr>
              <a:xfrm>
                <a:off x="1695240" y="5472000"/>
                <a:ext cx="2043000" cy="453960"/>
              </a:xfrm>
              <a:custGeom>
                <a:avLst/>
                <a:gdLst>
                  <a:gd name="textAreaLeft" fmla="*/ 0 w 2043000"/>
                  <a:gd name="textAreaRight" fmla="*/ 2043360 w 2043000"/>
                  <a:gd name="textAreaTop" fmla="*/ 0 h 453960"/>
                  <a:gd name="textAreaBottom" fmla="*/ 454320 h 453960"/>
                </a:gdLst>
                <a:ahLst/>
                <a:rect l="textAreaLeft" t="textAreaTop" r="textAreaRight" b="textAreaBottom"/>
                <a:pathLst>
                  <a:path w="10000" h="10000">
                    <a:moveTo>
                      <a:pt x="0" y="0"/>
                    </a:moveTo>
                    <a:lnTo>
                      <a:pt x="10000" y="0"/>
                    </a:lnTo>
                    <a:lnTo>
                      <a:pt x="10000" y="10000"/>
                    </a:lnTo>
                    <a:lnTo>
                      <a:pt x="0" y="1000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 Box 16"/>
              <p:cNvSpPr/>
              <p:nvPr/>
            </p:nvSpPr>
            <p:spPr>
              <a:xfrm>
                <a:off x="1698480" y="5445000"/>
                <a:ext cx="180936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7000">
                  <a:lnSpc>
                    <a:spcPts val="2874"/>
                  </a:lnSpc>
                  <a:tabLst>
                    <a:tab algn="l" pos="0"/>
                    <a:tab algn="l" pos="90360"/>
                    <a:tab algn="l" pos="1004760"/>
                    <a:tab algn="l" pos="191916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Environment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27000">
                  <a:lnSpc>
                    <a:spcPts val="2874"/>
                  </a:lnSpc>
                  <a:tabLst>
                    <a:tab algn="l" pos="0"/>
                    <a:tab algn="l" pos="90360"/>
                    <a:tab algn="l" pos="1004760"/>
                    <a:tab algn="l" pos="191916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3" name="Group 17"/>
          <p:cNvGrpSpPr/>
          <p:nvPr/>
        </p:nvGrpSpPr>
        <p:grpSpPr>
          <a:xfrm>
            <a:off x="3216240" y="2981160"/>
            <a:ext cx="4522680" cy="1292040"/>
            <a:chOff x="3216240" y="2981160"/>
            <a:chExt cx="4522680" cy="1292040"/>
          </a:xfrm>
        </p:grpSpPr>
        <p:grpSp>
          <p:nvGrpSpPr>
            <p:cNvPr id="154" name="Group 18"/>
            <p:cNvGrpSpPr/>
            <p:nvPr/>
          </p:nvGrpSpPr>
          <p:grpSpPr>
            <a:xfrm>
              <a:off x="3216240" y="2981160"/>
              <a:ext cx="1246320" cy="1216080"/>
              <a:chOff x="3216240" y="2981160"/>
              <a:chExt cx="1246320" cy="1216080"/>
            </a:xfrm>
          </p:grpSpPr>
          <p:sp>
            <p:nvSpPr>
              <p:cNvPr id="155" name="Freeform 19"/>
              <p:cNvSpPr/>
              <p:nvPr/>
            </p:nvSpPr>
            <p:spPr>
              <a:xfrm>
                <a:off x="3216240" y="2981160"/>
                <a:ext cx="1246320" cy="1216080"/>
              </a:xfrm>
              <a:custGeom>
                <a:avLst/>
                <a:gdLst>
                  <a:gd name="textAreaLeft" fmla="*/ 0 w 1246320"/>
                  <a:gd name="textAreaRight" fmla="*/ 1246680 w 1246320"/>
                  <a:gd name="textAreaTop" fmla="*/ 0 h 1216080"/>
                  <a:gd name="textAreaBottom" fmla="*/ 1216440 h 1216080"/>
                </a:gdLst>
                <a:ahLst/>
                <a:rect l="textAreaLeft" t="textAreaTop" r="textAreaRight" b="textAreaBottom"/>
                <a:pathLst>
                  <a:path w="10000" h="10000">
                    <a:moveTo>
                      <a:pt x="1209" y="0"/>
                    </a:moveTo>
                    <a:lnTo>
                      <a:pt x="8790" y="0"/>
                    </a:lnTo>
                    <a:cubicBezTo>
                      <a:pt x="9458" y="0"/>
                      <a:pt x="10000" y="555"/>
                      <a:pt x="10000" y="1239"/>
                    </a:cubicBezTo>
                    <a:lnTo>
                      <a:pt x="10000" y="8760"/>
                    </a:lnTo>
                    <a:cubicBezTo>
                      <a:pt x="10000" y="9444"/>
                      <a:pt x="9458" y="10000"/>
                      <a:pt x="8790" y="10000"/>
                    </a:cubicBezTo>
                    <a:lnTo>
                      <a:pt x="1209" y="10000"/>
                    </a:lnTo>
                    <a:cubicBezTo>
                      <a:pt x="541" y="10000"/>
                      <a:pt x="0" y="9444"/>
                      <a:pt x="0" y="8760"/>
                    </a:cubicBezTo>
                    <a:lnTo>
                      <a:pt x="0" y="1239"/>
                    </a:lnTo>
                    <a:cubicBezTo>
                      <a:pt x="0" y="555"/>
                      <a:pt x="541" y="0"/>
                      <a:pt x="1209" y="0"/>
                    </a:cubicBezTo>
                    <a:close/>
                    <a:moveTo>
                      <a:pt x="1209" y="0"/>
                    </a:moveTo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6" name="Group 20"/>
              <p:cNvGrpSpPr/>
              <p:nvPr/>
            </p:nvGrpSpPr>
            <p:grpSpPr>
              <a:xfrm>
                <a:off x="3657600" y="3101760"/>
                <a:ext cx="368280" cy="982440"/>
                <a:chOff x="3657600" y="3101760"/>
                <a:chExt cx="368280" cy="982440"/>
              </a:xfrm>
            </p:grpSpPr>
            <p:sp>
              <p:nvSpPr>
                <p:cNvPr id="157" name="Freeform 21"/>
                <p:cNvSpPr/>
                <p:nvPr/>
              </p:nvSpPr>
              <p:spPr>
                <a:xfrm>
                  <a:off x="3657600" y="3290760"/>
                  <a:ext cx="368280" cy="793440"/>
                </a:xfrm>
                <a:custGeom>
                  <a:avLst/>
                  <a:gdLst>
                    <a:gd name="textAreaLeft" fmla="*/ 0 w 368280"/>
                    <a:gd name="textAreaRight" fmla="*/ 368640 w 368280"/>
                    <a:gd name="textAreaTop" fmla="*/ 0 h 793440"/>
                    <a:gd name="textAreaBottom" fmla="*/ 793800 h 793440"/>
                  </a:gdLst>
                  <a:ahLst/>
                  <a:rect l="textAreaLeft" t="textAreaTop" r="textAreaRight" b="textAreaBottom"/>
                  <a:pathLst>
                    <a:path w="10000" h="10000">
                      <a:moveTo>
                        <a:pt x="2389" y="0"/>
                      </a:moveTo>
                      <a:lnTo>
                        <a:pt x="7654" y="0"/>
                      </a:lnTo>
                      <a:lnTo>
                        <a:pt x="7831" y="0"/>
                      </a:lnTo>
                      <a:lnTo>
                        <a:pt x="7964" y="20"/>
                      </a:lnTo>
                      <a:lnTo>
                        <a:pt x="8097" y="20"/>
                      </a:lnTo>
                      <a:lnTo>
                        <a:pt x="8185" y="40"/>
                      </a:lnTo>
                      <a:lnTo>
                        <a:pt x="8318" y="60"/>
                      </a:lnTo>
                      <a:lnTo>
                        <a:pt x="8495" y="60"/>
                      </a:lnTo>
                      <a:lnTo>
                        <a:pt x="8628" y="80"/>
                      </a:lnTo>
                      <a:lnTo>
                        <a:pt x="8761" y="120"/>
                      </a:lnTo>
                      <a:lnTo>
                        <a:pt x="8849" y="140"/>
                      </a:lnTo>
                      <a:lnTo>
                        <a:pt x="8982" y="160"/>
                      </a:lnTo>
                      <a:lnTo>
                        <a:pt x="9159" y="220"/>
                      </a:lnTo>
                      <a:lnTo>
                        <a:pt x="9292" y="260"/>
                      </a:lnTo>
                      <a:lnTo>
                        <a:pt x="9380" y="300"/>
                      </a:lnTo>
                      <a:lnTo>
                        <a:pt x="9557" y="360"/>
                      </a:lnTo>
                      <a:lnTo>
                        <a:pt x="9646" y="420"/>
                      </a:lnTo>
                      <a:lnTo>
                        <a:pt x="9734" y="480"/>
                      </a:lnTo>
                      <a:lnTo>
                        <a:pt x="9867" y="560"/>
                      </a:lnTo>
                      <a:lnTo>
                        <a:pt x="9911" y="620"/>
                      </a:lnTo>
                      <a:lnTo>
                        <a:pt x="10000" y="700"/>
                      </a:lnTo>
                      <a:lnTo>
                        <a:pt x="10000" y="760"/>
                      </a:lnTo>
                      <a:lnTo>
                        <a:pt x="10000" y="840"/>
                      </a:lnTo>
                      <a:lnTo>
                        <a:pt x="10000" y="4540"/>
                      </a:lnTo>
                      <a:lnTo>
                        <a:pt x="9955" y="4580"/>
                      </a:lnTo>
                      <a:lnTo>
                        <a:pt x="9911" y="4620"/>
                      </a:lnTo>
                      <a:lnTo>
                        <a:pt x="9911" y="4680"/>
                      </a:lnTo>
                      <a:lnTo>
                        <a:pt x="9867" y="4700"/>
                      </a:lnTo>
                      <a:lnTo>
                        <a:pt x="9778" y="4760"/>
                      </a:lnTo>
                      <a:lnTo>
                        <a:pt x="9690" y="4800"/>
                      </a:lnTo>
                      <a:lnTo>
                        <a:pt x="9557" y="4840"/>
                      </a:lnTo>
                      <a:lnTo>
                        <a:pt x="9424" y="4880"/>
                      </a:lnTo>
                      <a:lnTo>
                        <a:pt x="9380" y="4900"/>
                      </a:lnTo>
                      <a:lnTo>
                        <a:pt x="9247" y="4900"/>
                      </a:lnTo>
                      <a:lnTo>
                        <a:pt x="9115" y="4900"/>
                      </a:lnTo>
                      <a:lnTo>
                        <a:pt x="8982" y="4900"/>
                      </a:lnTo>
                      <a:lnTo>
                        <a:pt x="8849" y="4900"/>
                      </a:lnTo>
                      <a:lnTo>
                        <a:pt x="8716" y="4860"/>
                      </a:lnTo>
                      <a:lnTo>
                        <a:pt x="8628" y="4860"/>
                      </a:lnTo>
                      <a:lnTo>
                        <a:pt x="8539" y="4820"/>
                      </a:lnTo>
                      <a:lnTo>
                        <a:pt x="8495" y="4780"/>
                      </a:lnTo>
                      <a:lnTo>
                        <a:pt x="8407" y="4740"/>
                      </a:lnTo>
                      <a:lnTo>
                        <a:pt x="8362" y="4700"/>
                      </a:lnTo>
                      <a:lnTo>
                        <a:pt x="8274" y="4680"/>
                      </a:lnTo>
                      <a:lnTo>
                        <a:pt x="8274" y="4640"/>
                      </a:lnTo>
                      <a:lnTo>
                        <a:pt x="8230" y="4600"/>
                      </a:lnTo>
                      <a:lnTo>
                        <a:pt x="8230" y="4580"/>
                      </a:lnTo>
                      <a:lnTo>
                        <a:pt x="8185" y="4520"/>
                      </a:lnTo>
                      <a:lnTo>
                        <a:pt x="8230" y="1700"/>
                      </a:lnTo>
                      <a:lnTo>
                        <a:pt x="7654" y="1700"/>
                      </a:lnTo>
                      <a:lnTo>
                        <a:pt x="7654" y="9440"/>
                      </a:lnTo>
                      <a:lnTo>
                        <a:pt x="7654" y="9520"/>
                      </a:lnTo>
                      <a:lnTo>
                        <a:pt x="7610" y="9600"/>
                      </a:lnTo>
                      <a:lnTo>
                        <a:pt x="7566" y="9680"/>
                      </a:lnTo>
                      <a:lnTo>
                        <a:pt x="7477" y="9760"/>
                      </a:lnTo>
                      <a:lnTo>
                        <a:pt x="7345" y="9820"/>
                      </a:lnTo>
                      <a:lnTo>
                        <a:pt x="7256" y="9880"/>
                      </a:lnTo>
                      <a:lnTo>
                        <a:pt x="7123" y="9920"/>
                      </a:lnTo>
                      <a:lnTo>
                        <a:pt x="6991" y="9960"/>
                      </a:lnTo>
                      <a:lnTo>
                        <a:pt x="6858" y="9980"/>
                      </a:lnTo>
                      <a:lnTo>
                        <a:pt x="6725" y="10000"/>
                      </a:lnTo>
                      <a:lnTo>
                        <a:pt x="6637" y="10000"/>
                      </a:lnTo>
                      <a:lnTo>
                        <a:pt x="6504" y="10000"/>
                      </a:lnTo>
                      <a:lnTo>
                        <a:pt x="6371" y="10000"/>
                      </a:lnTo>
                      <a:lnTo>
                        <a:pt x="6238" y="10000"/>
                      </a:lnTo>
                      <a:lnTo>
                        <a:pt x="6061" y="9980"/>
                      </a:lnTo>
                      <a:lnTo>
                        <a:pt x="5884" y="9940"/>
                      </a:lnTo>
                      <a:lnTo>
                        <a:pt x="5752" y="9920"/>
                      </a:lnTo>
                      <a:lnTo>
                        <a:pt x="5663" y="9860"/>
                      </a:lnTo>
                      <a:lnTo>
                        <a:pt x="5619" y="9840"/>
                      </a:lnTo>
                      <a:lnTo>
                        <a:pt x="5530" y="9780"/>
                      </a:lnTo>
                      <a:lnTo>
                        <a:pt x="5442" y="9720"/>
                      </a:lnTo>
                      <a:lnTo>
                        <a:pt x="5398" y="9680"/>
                      </a:lnTo>
                      <a:lnTo>
                        <a:pt x="5353" y="9620"/>
                      </a:lnTo>
                      <a:lnTo>
                        <a:pt x="5309" y="9560"/>
                      </a:lnTo>
                      <a:lnTo>
                        <a:pt x="5309" y="9500"/>
                      </a:lnTo>
                      <a:lnTo>
                        <a:pt x="5309" y="4780"/>
                      </a:lnTo>
                      <a:lnTo>
                        <a:pt x="4690" y="4780"/>
                      </a:lnTo>
                      <a:lnTo>
                        <a:pt x="4690" y="9480"/>
                      </a:lnTo>
                      <a:lnTo>
                        <a:pt x="4646" y="9560"/>
                      </a:lnTo>
                      <a:lnTo>
                        <a:pt x="4646" y="9600"/>
                      </a:lnTo>
                      <a:lnTo>
                        <a:pt x="4557" y="9700"/>
                      </a:lnTo>
                      <a:lnTo>
                        <a:pt x="4469" y="9760"/>
                      </a:lnTo>
                      <a:lnTo>
                        <a:pt x="4380" y="9820"/>
                      </a:lnTo>
                      <a:lnTo>
                        <a:pt x="4292" y="9880"/>
                      </a:lnTo>
                      <a:lnTo>
                        <a:pt x="4159" y="9940"/>
                      </a:lnTo>
                      <a:lnTo>
                        <a:pt x="3982" y="9960"/>
                      </a:lnTo>
                      <a:lnTo>
                        <a:pt x="3761" y="10000"/>
                      </a:lnTo>
                      <a:lnTo>
                        <a:pt x="3584" y="10000"/>
                      </a:lnTo>
                      <a:lnTo>
                        <a:pt x="3407" y="10000"/>
                      </a:lnTo>
                      <a:lnTo>
                        <a:pt x="3274" y="10000"/>
                      </a:lnTo>
                      <a:lnTo>
                        <a:pt x="3141" y="9980"/>
                      </a:lnTo>
                      <a:lnTo>
                        <a:pt x="3053" y="9960"/>
                      </a:lnTo>
                      <a:lnTo>
                        <a:pt x="2920" y="9940"/>
                      </a:lnTo>
                      <a:lnTo>
                        <a:pt x="2787" y="9900"/>
                      </a:lnTo>
                      <a:lnTo>
                        <a:pt x="2654" y="9840"/>
                      </a:lnTo>
                      <a:lnTo>
                        <a:pt x="2610" y="9800"/>
                      </a:lnTo>
                      <a:lnTo>
                        <a:pt x="2522" y="9740"/>
                      </a:lnTo>
                      <a:lnTo>
                        <a:pt x="2433" y="9680"/>
                      </a:lnTo>
                      <a:lnTo>
                        <a:pt x="2433" y="9620"/>
                      </a:lnTo>
                      <a:lnTo>
                        <a:pt x="2389" y="9580"/>
                      </a:lnTo>
                      <a:lnTo>
                        <a:pt x="2345" y="9480"/>
                      </a:lnTo>
                      <a:lnTo>
                        <a:pt x="2345" y="1700"/>
                      </a:lnTo>
                      <a:lnTo>
                        <a:pt x="1769" y="1700"/>
                      </a:lnTo>
                      <a:lnTo>
                        <a:pt x="1769" y="4520"/>
                      </a:lnTo>
                      <a:lnTo>
                        <a:pt x="1769" y="4580"/>
                      </a:lnTo>
                      <a:lnTo>
                        <a:pt x="1725" y="4640"/>
                      </a:lnTo>
                      <a:lnTo>
                        <a:pt x="1681" y="4680"/>
                      </a:lnTo>
                      <a:lnTo>
                        <a:pt x="1592" y="4720"/>
                      </a:lnTo>
                      <a:lnTo>
                        <a:pt x="1592" y="4740"/>
                      </a:lnTo>
                      <a:lnTo>
                        <a:pt x="1548" y="4780"/>
                      </a:lnTo>
                      <a:lnTo>
                        <a:pt x="1460" y="4800"/>
                      </a:lnTo>
                      <a:lnTo>
                        <a:pt x="1415" y="4820"/>
                      </a:lnTo>
                      <a:lnTo>
                        <a:pt x="1327" y="4860"/>
                      </a:lnTo>
                      <a:lnTo>
                        <a:pt x="1238" y="4860"/>
                      </a:lnTo>
                      <a:lnTo>
                        <a:pt x="1150" y="4900"/>
                      </a:lnTo>
                      <a:lnTo>
                        <a:pt x="1061" y="4900"/>
                      </a:lnTo>
                      <a:lnTo>
                        <a:pt x="1017" y="4900"/>
                      </a:lnTo>
                      <a:lnTo>
                        <a:pt x="929" y="4900"/>
                      </a:lnTo>
                      <a:lnTo>
                        <a:pt x="752" y="4900"/>
                      </a:lnTo>
                      <a:lnTo>
                        <a:pt x="707" y="4900"/>
                      </a:lnTo>
                      <a:lnTo>
                        <a:pt x="619" y="4900"/>
                      </a:lnTo>
                      <a:lnTo>
                        <a:pt x="530" y="4880"/>
                      </a:lnTo>
                      <a:lnTo>
                        <a:pt x="486" y="4860"/>
                      </a:lnTo>
                      <a:lnTo>
                        <a:pt x="442" y="4840"/>
                      </a:lnTo>
                      <a:lnTo>
                        <a:pt x="353" y="4820"/>
                      </a:lnTo>
                      <a:lnTo>
                        <a:pt x="309" y="4800"/>
                      </a:lnTo>
                      <a:lnTo>
                        <a:pt x="221" y="4760"/>
                      </a:lnTo>
                      <a:lnTo>
                        <a:pt x="176" y="4720"/>
                      </a:lnTo>
                      <a:lnTo>
                        <a:pt x="132" y="4700"/>
                      </a:lnTo>
                      <a:lnTo>
                        <a:pt x="88" y="4680"/>
                      </a:lnTo>
                      <a:lnTo>
                        <a:pt x="44" y="4620"/>
                      </a:lnTo>
                      <a:lnTo>
                        <a:pt x="44" y="4580"/>
                      </a:lnTo>
                      <a:lnTo>
                        <a:pt x="0" y="4540"/>
                      </a:lnTo>
                      <a:lnTo>
                        <a:pt x="0" y="820"/>
                      </a:lnTo>
                      <a:lnTo>
                        <a:pt x="44" y="680"/>
                      </a:lnTo>
                      <a:lnTo>
                        <a:pt x="88" y="600"/>
                      </a:lnTo>
                      <a:lnTo>
                        <a:pt x="221" y="500"/>
                      </a:lnTo>
                      <a:lnTo>
                        <a:pt x="353" y="440"/>
                      </a:lnTo>
                      <a:lnTo>
                        <a:pt x="486" y="380"/>
                      </a:lnTo>
                      <a:lnTo>
                        <a:pt x="619" y="300"/>
                      </a:lnTo>
                      <a:lnTo>
                        <a:pt x="796" y="240"/>
                      </a:lnTo>
                      <a:lnTo>
                        <a:pt x="1061" y="160"/>
                      </a:lnTo>
                      <a:lnTo>
                        <a:pt x="1238" y="120"/>
                      </a:lnTo>
                      <a:lnTo>
                        <a:pt x="1415" y="100"/>
                      </a:lnTo>
                      <a:lnTo>
                        <a:pt x="1681" y="60"/>
                      </a:lnTo>
                      <a:lnTo>
                        <a:pt x="1902" y="40"/>
                      </a:lnTo>
                      <a:lnTo>
                        <a:pt x="2123" y="20"/>
                      </a:lnTo>
                      <a:lnTo>
                        <a:pt x="2389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" name="Freeform 22"/>
                <p:cNvSpPr/>
                <p:nvPr/>
              </p:nvSpPr>
              <p:spPr>
                <a:xfrm>
                  <a:off x="3762360" y="3101760"/>
                  <a:ext cx="142200" cy="145800"/>
                </a:xfrm>
                <a:custGeom>
                  <a:avLst/>
                  <a:gdLst>
                    <a:gd name="textAreaLeft" fmla="*/ 0 w 142200"/>
                    <a:gd name="textAreaRight" fmla="*/ 142560 w 142200"/>
                    <a:gd name="textAreaTop" fmla="*/ 0 h 145800"/>
                    <a:gd name="textAreaBottom" fmla="*/ 146160 h 145800"/>
                  </a:gdLst>
                  <a:ahLst/>
                  <a:rect l="textAreaLeft" t="textAreaTop" r="textAreaRight" b="textAreaBottom"/>
                  <a:pathLst>
                    <a:path w="10000" h="10000">
                      <a:moveTo>
                        <a:pt x="5000" y="0"/>
                      </a:moveTo>
                      <a:cubicBezTo>
                        <a:pt x="2238" y="0"/>
                        <a:pt x="0" y="2238"/>
                        <a:pt x="0" y="5000"/>
                      </a:cubicBezTo>
                      <a:cubicBezTo>
                        <a:pt x="0" y="7761"/>
                        <a:pt x="2238" y="10000"/>
                        <a:pt x="5000" y="10000"/>
                      </a:cubicBezTo>
                      <a:cubicBezTo>
                        <a:pt x="7761" y="10000"/>
                        <a:pt x="10000" y="7761"/>
                        <a:pt x="10000" y="5000"/>
                      </a:cubicBezTo>
                      <a:cubicBezTo>
                        <a:pt x="10000" y="2238"/>
                        <a:pt x="7761" y="0"/>
                        <a:pt x="5000" y="0"/>
                      </a:cubicBezTo>
                      <a:close/>
                      <a:moveTo>
                        <a:pt x="5000" y="0"/>
                      </a:move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9" name="Group 23"/>
            <p:cNvGrpSpPr/>
            <p:nvPr/>
          </p:nvGrpSpPr>
          <p:grpSpPr>
            <a:xfrm>
              <a:off x="6492960" y="3057120"/>
              <a:ext cx="1245960" cy="1216080"/>
              <a:chOff x="6492960" y="3057120"/>
              <a:chExt cx="1245960" cy="1216080"/>
            </a:xfrm>
          </p:grpSpPr>
          <p:sp>
            <p:nvSpPr>
              <p:cNvPr id="160" name="Freeform 24"/>
              <p:cNvSpPr/>
              <p:nvPr/>
            </p:nvSpPr>
            <p:spPr>
              <a:xfrm>
                <a:off x="6492960" y="3057120"/>
                <a:ext cx="1245960" cy="1216080"/>
              </a:xfrm>
              <a:custGeom>
                <a:avLst/>
                <a:gdLst>
                  <a:gd name="textAreaLeft" fmla="*/ 0 w 1245960"/>
                  <a:gd name="textAreaRight" fmla="*/ 1246320 w 1245960"/>
                  <a:gd name="textAreaTop" fmla="*/ 0 h 1216080"/>
                  <a:gd name="textAreaBottom" fmla="*/ 1216440 h 1216080"/>
                </a:gdLst>
                <a:ahLst/>
                <a:rect l="textAreaLeft" t="textAreaTop" r="textAreaRight" b="textAreaBottom"/>
                <a:pathLst>
                  <a:path w="10000" h="10000">
                    <a:moveTo>
                      <a:pt x="1209" y="0"/>
                    </a:moveTo>
                    <a:lnTo>
                      <a:pt x="8790" y="0"/>
                    </a:lnTo>
                    <a:cubicBezTo>
                      <a:pt x="9458" y="0"/>
                      <a:pt x="10000" y="555"/>
                      <a:pt x="10000" y="1239"/>
                    </a:cubicBezTo>
                    <a:lnTo>
                      <a:pt x="10000" y="8760"/>
                    </a:lnTo>
                    <a:cubicBezTo>
                      <a:pt x="10000" y="9444"/>
                      <a:pt x="9458" y="10000"/>
                      <a:pt x="8790" y="10000"/>
                    </a:cubicBezTo>
                    <a:lnTo>
                      <a:pt x="1209" y="10000"/>
                    </a:lnTo>
                    <a:cubicBezTo>
                      <a:pt x="541" y="10000"/>
                      <a:pt x="0" y="9444"/>
                      <a:pt x="0" y="8760"/>
                    </a:cubicBezTo>
                    <a:lnTo>
                      <a:pt x="0" y="1239"/>
                    </a:lnTo>
                    <a:cubicBezTo>
                      <a:pt x="0" y="555"/>
                      <a:pt x="541" y="0"/>
                      <a:pt x="1209" y="0"/>
                    </a:cubicBezTo>
                    <a:close/>
                    <a:moveTo>
                      <a:pt x="1209" y="0"/>
                    </a:moveTo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Group 25"/>
              <p:cNvGrpSpPr/>
              <p:nvPr/>
            </p:nvGrpSpPr>
            <p:grpSpPr>
              <a:xfrm>
                <a:off x="6932160" y="3177720"/>
                <a:ext cx="367920" cy="982800"/>
                <a:chOff x="6932160" y="3177720"/>
                <a:chExt cx="367920" cy="982800"/>
              </a:xfrm>
            </p:grpSpPr>
            <p:sp>
              <p:nvSpPr>
                <p:cNvPr id="162" name="Freeform 26"/>
                <p:cNvSpPr/>
                <p:nvPr/>
              </p:nvSpPr>
              <p:spPr>
                <a:xfrm>
                  <a:off x="6932160" y="3366720"/>
                  <a:ext cx="367920" cy="793800"/>
                </a:xfrm>
                <a:custGeom>
                  <a:avLst/>
                  <a:gdLst>
                    <a:gd name="textAreaLeft" fmla="*/ 0 w 367920"/>
                    <a:gd name="textAreaRight" fmla="*/ 368280 w 367920"/>
                    <a:gd name="textAreaTop" fmla="*/ 0 h 793800"/>
                    <a:gd name="textAreaBottom" fmla="*/ 794160 h 793800"/>
                  </a:gdLst>
                  <a:ahLst/>
                  <a:rect l="textAreaLeft" t="textAreaTop" r="textAreaRight" b="textAreaBottom"/>
                  <a:pathLst>
                    <a:path w="10000" h="10000">
                      <a:moveTo>
                        <a:pt x="2389" y="0"/>
                      </a:moveTo>
                      <a:lnTo>
                        <a:pt x="7654" y="0"/>
                      </a:lnTo>
                      <a:lnTo>
                        <a:pt x="7831" y="0"/>
                      </a:lnTo>
                      <a:lnTo>
                        <a:pt x="7964" y="20"/>
                      </a:lnTo>
                      <a:lnTo>
                        <a:pt x="8097" y="20"/>
                      </a:lnTo>
                      <a:lnTo>
                        <a:pt x="8185" y="40"/>
                      </a:lnTo>
                      <a:lnTo>
                        <a:pt x="8318" y="60"/>
                      </a:lnTo>
                      <a:lnTo>
                        <a:pt x="8495" y="60"/>
                      </a:lnTo>
                      <a:lnTo>
                        <a:pt x="8628" y="80"/>
                      </a:lnTo>
                      <a:lnTo>
                        <a:pt x="8761" y="120"/>
                      </a:lnTo>
                      <a:lnTo>
                        <a:pt x="8849" y="140"/>
                      </a:lnTo>
                      <a:lnTo>
                        <a:pt x="8982" y="160"/>
                      </a:lnTo>
                      <a:lnTo>
                        <a:pt x="9159" y="220"/>
                      </a:lnTo>
                      <a:lnTo>
                        <a:pt x="9292" y="260"/>
                      </a:lnTo>
                      <a:lnTo>
                        <a:pt x="9380" y="300"/>
                      </a:lnTo>
                      <a:lnTo>
                        <a:pt x="9557" y="360"/>
                      </a:lnTo>
                      <a:lnTo>
                        <a:pt x="9646" y="420"/>
                      </a:lnTo>
                      <a:lnTo>
                        <a:pt x="9734" y="480"/>
                      </a:lnTo>
                      <a:lnTo>
                        <a:pt x="9867" y="560"/>
                      </a:lnTo>
                      <a:lnTo>
                        <a:pt x="9911" y="620"/>
                      </a:lnTo>
                      <a:lnTo>
                        <a:pt x="10000" y="700"/>
                      </a:lnTo>
                      <a:lnTo>
                        <a:pt x="10000" y="760"/>
                      </a:lnTo>
                      <a:lnTo>
                        <a:pt x="10000" y="840"/>
                      </a:lnTo>
                      <a:lnTo>
                        <a:pt x="10000" y="4540"/>
                      </a:lnTo>
                      <a:lnTo>
                        <a:pt x="9955" y="4580"/>
                      </a:lnTo>
                      <a:lnTo>
                        <a:pt x="9911" y="4620"/>
                      </a:lnTo>
                      <a:lnTo>
                        <a:pt x="9911" y="4680"/>
                      </a:lnTo>
                      <a:lnTo>
                        <a:pt x="9867" y="4700"/>
                      </a:lnTo>
                      <a:lnTo>
                        <a:pt x="9778" y="4760"/>
                      </a:lnTo>
                      <a:lnTo>
                        <a:pt x="9690" y="4800"/>
                      </a:lnTo>
                      <a:lnTo>
                        <a:pt x="9557" y="4840"/>
                      </a:lnTo>
                      <a:lnTo>
                        <a:pt x="9424" y="4880"/>
                      </a:lnTo>
                      <a:lnTo>
                        <a:pt x="9380" y="4900"/>
                      </a:lnTo>
                      <a:lnTo>
                        <a:pt x="9247" y="4900"/>
                      </a:lnTo>
                      <a:lnTo>
                        <a:pt x="9115" y="4900"/>
                      </a:lnTo>
                      <a:lnTo>
                        <a:pt x="8982" y="4900"/>
                      </a:lnTo>
                      <a:lnTo>
                        <a:pt x="8849" y="4900"/>
                      </a:lnTo>
                      <a:lnTo>
                        <a:pt x="8716" y="4860"/>
                      </a:lnTo>
                      <a:lnTo>
                        <a:pt x="8628" y="4860"/>
                      </a:lnTo>
                      <a:lnTo>
                        <a:pt x="8539" y="4820"/>
                      </a:lnTo>
                      <a:lnTo>
                        <a:pt x="8495" y="4780"/>
                      </a:lnTo>
                      <a:lnTo>
                        <a:pt x="8407" y="4740"/>
                      </a:lnTo>
                      <a:lnTo>
                        <a:pt x="8362" y="4700"/>
                      </a:lnTo>
                      <a:lnTo>
                        <a:pt x="8274" y="4680"/>
                      </a:lnTo>
                      <a:lnTo>
                        <a:pt x="8274" y="4640"/>
                      </a:lnTo>
                      <a:lnTo>
                        <a:pt x="8230" y="4600"/>
                      </a:lnTo>
                      <a:lnTo>
                        <a:pt x="8230" y="4580"/>
                      </a:lnTo>
                      <a:lnTo>
                        <a:pt x="8185" y="4520"/>
                      </a:lnTo>
                      <a:lnTo>
                        <a:pt x="8230" y="1700"/>
                      </a:lnTo>
                      <a:lnTo>
                        <a:pt x="7654" y="1700"/>
                      </a:lnTo>
                      <a:lnTo>
                        <a:pt x="7654" y="9440"/>
                      </a:lnTo>
                      <a:lnTo>
                        <a:pt x="7654" y="9520"/>
                      </a:lnTo>
                      <a:lnTo>
                        <a:pt x="7610" y="9600"/>
                      </a:lnTo>
                      <a:lnTo>
                        <a:pt x="7566" y="9680"/>
                      </a:lnTo>
                      <a:lnTo>
                        <a:pt x="7477" y="9760"/>
                      </a:lnTo>
                      <a:lnTo>
                        <a:pt x="7345" y="9820"/>
                      </a:lnTo>
                      <a:lnTo>
                        <a:pt x="7256" y="9880"/>
                      </a:lnTo>
                      <a:lnTo>
                        <a:pt x="7123" y="9920"/>
                      </a:lnTo>
                      <a:lnTo>
                        <a:pt x="6991" y="9960"/>
                      </a:lnTo>
                      <a:lnTo>
                        <a:pt x="6858" y="9980"/>
                      </a:lnTo>
                      <a:lnTo>
                        <a:pt x="6725" y="10000"/>
                      </a:lnTo>
                      <a:lnTo>
                        <a:pt x="6637" y="10000"/>
                      </a:lnTo>
                      <a:lnTo>
                        <a:pt x="6504" y="10000"/>
                      </a:lnTo>
                      <a:lnTo>
                        <a:pt x="6371" y="10000"/>
                      </a:lnTo>
                      <a:lnTo>
                        <a:pt x="6238" y="10000"/>
                      </a:lnTo>
                      <a:lnTo>
                        <a:pt x="6061" y="9980"/>
                      </a:lnTo>
                      <a:lnTo>
                        <a:pt x="5884" y="9940"/>
                      </a:lnTo>
                      <a:lnTo>
                        <a:pt x="5752" y="9920"/>
                      </a:lnTo>
                      <a:lnTo>
                        <a:pt x="5663" y="9860"/>
                      </a:lnTo>
                      <a:lnTo>
                        <a:pt x="5619" y="9840"/>
                      </a:lnTo>
                      <a:lnTo>
                        <a:pt x="5530" y="9780"/>
                      </a:lnTo>
                      <a:lnTo>
                        <a:pt x="5442" y="9720"/>
                      </a:lnTo>
                      <a:lnTo>
                        <a:pt x="5398" y="9680"/>
                      </a:lnTo>
                      <a:lnTo>
                        <a:pt x="5353" y="9620"/>
                      </a:lnTo>
                      <a:lnTo>
                        <a:pt x="5309" y="9560"/>
                      </a:lnTo>
                      <a:lnTo>
                        <a:pt x="5309" y="9500"/>
                      </a:lnTo>
                      <a:lnTo>
                        <a:pt x="5309" y="4780"/>
                      </a:lnTo>
                      <a:lnTo>
                        <a:pt x="4690" y="4780"/>
                      </a:lnTo>
                      <a:lnTo>
                        <a:pt x="4690" y="9480"/>
                      </a:lnTo>
                      <a:lnTo>
                        <a:pt x="4646" y="9560"/>
                      </a:lnTo>
                      <a:lnTo>
                        <a:pt x="4646" y="9600"/>
                      </a:lnTo>
                      <a:lnTo>
                        <a:pt x="4557" y="9700"/>
                      </a:lnTo>
                      <a:lnTo>
                        <a:pt x="4469" y="9760"/>
                      </a:lnTo>
                      <a:lnTo>
                        <a:pt x="4380" y="9820"/>
                      </a:lnTo>
                      <a:lnTo>
                        <a:pt x="4292" y="9880"/>
                      </a:lnTo>
                      <a:lnTo>
                        <a:pt x="4159" y="9940"/>
                      </a:lnTo>
                      <a:lnTo>
                        <a:pt x="3982" y="9960"/>
                      </a:lnTo>
                      <a:lnTo>
                        <a:pt x="3761" y="10000"/>
                      </a:lnTo>
                      <a:lnTo>
                        <a:pt x="3584" y="10000"/>
                      </a:lnTo>
                      <a:lnTo>
                        <a:pt x="3407" y="10000"/>
                      </a:lnTo>
                      <a:lnTo>
                        <a:pt x="3274" y="10000"/>
                      </a:lnTo>
                      <a:lnTo>
                        <a:pt x="3141" y="9980"/>
                      </a:lnTo>
                      <a:lnTo>
                        <a:pt x="3053" y="9960"/>
                      </a:lnTo>
                      <a:lnTo>
                        <a:pt x="2920" y="9940"/>
                      </a:lnTo>
                      <a:lnTo>
                        <a:pt x="2787" y="9900"/>
                      </a:lnTo>
                      <a:lnTo>
                        <a:pt x="2654" y="9840"/>
                      </a:lnTo>
                      <a:lnTo>
                        <a:pt x="2610" y="9800"/>
                      </a:lnTo>
                      <a:lnTo>
                        <a:pt x="2522" y="9740"/>
                      </a:lnTo>
                      <a:lnTo>
                        <a:pt x="2433" y="9680"/>
                      </a:lnTo>
                      <a:lnTo>
                        <a:pt x="2433" y="9620"/>
                      </a:lnTo>
                      <a:lnTo>
                        <a:pt x="2389" y="9580"/>
                      </a:lnTo>
                      <a:lnTo>
                        <a:pt x="2345" y="9480"/>
                      </a:lnTo>
                      <a:lnTo>
                        <a:pt x="2345" y="1700"/>
                      </a:lnTo>
                      <a:lnTo>
                        <a:pt x="1769" y="1700"/>
                      </a:lnTo>
                      <a:lnTo>
                        <a:pt x="1769" y="4520"/>
                      </a:lnTo>
                      <a:lnTo>
                        <a:pt x="1769" y="4580"/>
                      </a:lnTo>
                      <a:lnTo>
                        <a:pt x="1725" y="4640"/>
                      </a:lnTo>
                      <a:lnTo>
                        <a:pt x="1681" y="4680"/>
                      </a:lnTo>
                      <a:lnTo>
                        <a:pt x="1592" y="4720"/>
                      </a:lnTo>
                      <a:lnTo>
                        <a:pt x="1592" y="4740"/>
                      </a:lnTo>
                      <a:lnTo>
                        <a:pt x="1548" y="4780"/>
                      </a:lnTo>
                      <a:lnTo>
                        <a:pt x="1460" y="4800"/>
                      </a:lnTo>
                      <a:lnTo>
                        <a:pt x="1415" y="4820"/>
                      </a:lnTo>
                      <a:lnTo>
                        <a:pt x="1327" y="4860"/>
                      </a:lnTo>
                      <a:lnTo>
                        <a:pt x="1238" y="4860"/>
                      </a:lnTo>
                      <a:lnTo>
                        <a:pt x="1150" y="4900"/>
                      </a:lnTo>
                      <a:lnTo>
                        <a:pt x="1061" y="4900"/>
                      </a:lnTo>
                      <a:lnTo>
                        <a:pt x="1017" y="4900"/>
                      </a:lnTo>
                      <a:lnTo>
                        <a:pt x="929" y="4900"/>
                      </a:lnTo>
                      <a:lnTo>
                        <a:pt x="752" y="4900"/>
                      </a:lnTo>
                      <a:lnTo>
                        <a:pt x="707" y="4900"/>
                      </a:lnTo>
                      <a:lnTo>
                        <a:pt x="619" y="4900"/>
                      </a:lnTo>
                      <a:lnTo>
                        <a:pt x="530" y="4880"/>
                      </a:lnTo>
                      <a:lnTo>
                        <a:pt x="486" y="4860"/>
                      </a:lnTo>
                      <a:lnTo>
                        <a:pt x="442" y="4840"/>
                      </a:lnTo>
                      <a:lnTo>
                        <a:pt x="353" y="4820"/>
                      </a:lnTo>
                      <a:lnTo>
                        <a:pt x="309" y="4800"/>
                      </a:lnTo>
                      <a:lnTo>
                        <a:pt x="221" y="4760"/>
                      </a:lnTo>
                      <a:lnTo>
                        <a:pt x="176" y="4720"/>
                      </a:lnTo>
                      <a:lnTo>
                        <a:pt x="132" y="4700"/>
                      </a:lnTo>
                      <a:lnTo>
                        <a:pt x="88" y="4680"/>
                      </a:lnTo>
                      <a:lnTo>
                        <a:pt x="44" y="4620"/>
                      </a:lnTo>
                      <a:lnTo>
                        <a:pt x="44" y="4580"/>
                      </a:lnTo>
                      <a:lnTo>
                        <a:pt x="0" y="4540"/>
                      </a:lnTo>
                      <a:lnTo>
                        <a:pt x="0" y="820"/>
                      </a:lnTo>
                      <a:lnTo>
                        <a:pt x="44" y="680"/>
                      </a:lnTo>
                      <a:lnTo>
                        <a:pt x="88" y="600"/>
                      </a:lnTo>
                      <a:lnTo>
                        <a:pt x="221" y="500"/>
                      </a:lnTo>
                      <a:lnTo>
                        <a:pt x="353" y="440"/>
                      </a:lnTo>
                      <a:lnTo>
                        <a:pt x="486" y="380"/>
                      </a:lnTo>
                      <a:lnTo>
                        <a:pt x="619" y="300"/>
                      </a:lnTo>
                      <a:lnTo>
                        <a:pt x="796" y="240"/>
                      </a:lnTo>
                      <a:lnTo>
                        <a:pt x="1061" y="160"/>
                      </a:lnTo>
                      <a:lnTo>
                        <a:pt x="1238" y="120"/>
                      </a:lnTo>
                      <a:lnTo>
                        <a:pt x="1415" y="100"/>
                      </a:lnTo>
                      <a:lnTo>
                        <a:pt x="1681" y="60"/>
                      </a:lnTo>
                      <a:lnTo>
                        <a:pt x="1902" y="40"/>
                      </a:lnTo>
                      <a:lnTo>
                        <a:pt x="2123" y="20"/>
                      </a:lnTo>
                      <a:lnTo>
                        <a:pt x="2389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" name="Freeform 27"/>
                <p:cNvSpPr/>
                <p:nvPr/>
              </p:nvSpPr>
              <p:spPr>
                <a:xfrm>
                  <a:off x="7036560" y="3177720"/>
                  <a:ext cx="142560" cy="146160"/>
                </a:xfrm>
                <a:custGeom>
                  <a:avLst/>
                  <a:gdLst>
                    <a:gd name="textAreaLeft" fmla="*/ 0 w 142560"/>
                    <a:gd name="textAreaRight" fmla="*/ 142920 w 142560"/>
                    <a:gd name="textAreaTop" fmla="*/ 0 h 146160"/>
                    <a:gd name="textAreaBottom" fmla="*/ 146520 h 146160"/>
                  </a:gdLst>
                  <a:ahLst/>
                  <a:rect l="textAreaLeft" t="textAreaTop" r="textAreaRight" b="textAreaBottom"/>
                  <a:pathLst>
                    <a:path w="10000" h="10000">
                      <a:moveTo>
                        <a:pt x="5000" y="0"/>
                      </a:moveTo>
                      <a:cubicBezTo>
                        <a:pt x="2238" y="0"/>
                        <a:pt x="0" y="2238"/>
                        <a:pt x="0" y="5000"/>
                      </a:cubicBezTo>
                      <a:cubicBezTo>
                        <a:pt x="0" y="7761"/>
                        <a:pt x="2238" y="10000"/>
                        <a:pt x="5000" y="10000"/>
                      </a:cubicBezTo>
                      <a:cubicBezTo>
                        <a:pt x="7761" y="10000"/>
                        <a:pt x="10000" y="7761"/>
                        <a:pt x="10000" y="5000"/>
                      </a:cubicBezTo>
                      <a:cubicBezTo>
                        <a:pt x="10000" y="2238"/>
                        <a:pt x="7761" y="0"/>
                        <a:pt x="5000" y="0"/>
                      </a:cubicBezTo>
                      <a:close/>
                      <a:moveTo>
                        <a:pt x="5000" y="0"/>
                      </a:move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4" name="Group 28"/>
          <p:cNvGrpSpPr/>
          <p:nvPr/>
        </p:nvGrpSpPr>
        <p:grpSpPr>
          <a:xfrm>
            <a:off x="3962520" y="1341360"/>
            <a:ext cx="3467160" cy="1778040"/>
            <a:chOff x="3962520" y="1341360"/>
            <a:chExt cx="3467160" cy="1778040"/>
          </a:xfrm>
        </p:grpSpPr>
        <p:sp>
          <p:nvSpPr>
            <p:cNvPr id="165" name="Freeform 29"/>
            <p:cNvSpPr/>
            <p:nvPr/>
          </p:nvSpPr>
          <p:spPr>
            <a:xfrm>
              <a:off x="3998880" y="2979720"/>
              <a:ext cx="455760" cy="139680"/>
            </a:xfrm>
            <a:custGeom>
              <a:avLst/>
              <a:gdLst>
                <a:gd name="textAreaLeft" fmla="*/ 0 w 455760"/>
                <a:gd name="textAreaRight" fmla="*/ 456120 w 455760"/>
                <a:gd name="textAreaTop" fmla="*/ 0 h 139680"/>
                <a:gd name="textAreaBottom" fmla="*/ 139680 h 139680"/>
              </a:gdLst>
              <a:ahLst/>
              <a:rect l="textAreaLeft" t="textAreaTop" r="textAreaRight" b="textAreaBottom"/>
              <a:pathLst>
                <a:path w="10000" h="10000">
                  <a:moveTo>
                    <a:pt x="5000" y="0"/>
                  </a:moveTo>
                  <a:cubicBezTo>
                    <a:pt x="2238" y="0"/>
                    <a:pt x="0" y="2238"/>
                    <a:pt x="0" y="5000"/>
                  </a:cubicBezTo>
                  <a:cubicBezTo>
                    <a:pt x="0" y="7761"/>
                    <a:pt x="2238" y="10000"/>
                    <a:pt x="5000" y="10000"/>
                  </a:cubicBezTo>
                  <a:cubicBezTo>
                    <a:pt x="7761" y="10000"/>
                    <a:pt x="10000" y="7761"/>
                    <a:pt x="10000" y="5000"/>
                  </a:cubicBezTo>
                  <a:cubicBezTo>
                    <a:pt x="10000" y="2238"/>
                    <a:pt x="7761" y="0"/>
                    <a:pt x="5000" y="0"/>
                  </a:cubicBezTo>
                  <a:close/>
                  <a:moveTo>
                    <a:pt x="5000" y="0"/>
                  </a:moveTo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30"/>
            <p:cNvSpPr/>
            <p:nvPr/>
          </p:nvSpPr>
          <p:spPr>
            <a:xfrm>
              <a:off x="4295880" y="2597040"/>
              <a:ext cx="768240" cy="370080"/>
            </a:xfrm>
            <a:custGeom>
              <a:avLst/>
              <a:gdLst>
                <a:gd name="textAreaLeft" fmla="*/ 0 w 768240"/>
                <a:gd name="textAreaRight" fmla="*/ 768600 w 768240"/>
                <a:gd name="textAreaTop" fmla="*/ 0 h 370080"/>
                <a:gd name="textAreaBottom" fmla="*/ 370440 h 370080"/>
              </a:gdLst>
              <a:ahLst/>
              <a:rect l="textAreaLeft" t="textAreaTop" r="textAreaRight" b="textAreaBottom"/>
              <a:pathLst>
                <a:path w="10000" h="10000">
                  <a:moveTo>
                    <a:pt x="5000" y="0"/>
                  </a:moveTo>
                  <a:cubicBezTo>
                    <a:pt x="2238" y="0"/>
                    <a:pt x="0" y="2238"/>
                    <a:pt x="0" y="5000"/>
                  </a:cubicBezTo>
                  <a:cubicBezTo>
                    <a:pt x="0" y="7761"/>
                    <a:pt x="2238" y="10000"/>
                    <a:pt x="5000" y="10000"/>
                  </a:cubicBezTo>
                  <a:cubicBezTo>
                    <a:pt x="7761" y="10000"/>
                    <a:pt x="10000" y="7761"/>
                    <a:pt x="10000" y="5000"/>
                  </a:cubicBezTo>
                  <a:cubicBezTo>
                    <a:pt x="10000" y="2238"/>
                    <a:pt x="7761" y="0"/>
                    <a:pt x="5000" y="0"/>
                  </a:cubicBezTo>
                  <a:close/>
                  <a:moveTo>
                    <a:pt x="5000" y="0"/>
                  </a:moveTo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31"/>
            <p:cNvSpPr/>
            <p:nvPr/>
          </p:nvSpPr>
          <p:spPr>
            <a:xfrm>
              <a:off x="4471920" y="1681200"/>
              <a:ext cx="2957760" cy="979560"/>
            </a:xfrm>
            <a:custGeom>
              <a:avLst/>
              <a:gdLst>
                <a:gd name="textAreaLeft" fmla="*/ 0 w 2957760"/>
                <a:gd name="textAreaRight" fmla="*/ 2958120 w 2957760"/>
                <a:gd name="textAreaTop" fmla="*/ 0 h 979560"/>
                <a:gd name="textAreaBottom" fmla="*/ 979920 h 979560"/>
              </a:gdLst>
              <a:ahLst/>
              <a:rect l="textAreaLeft" t="textAreaTop" r="textAreaRight" b="textAreaBottom"/>
              <a:pathLst>
                <a:path w="10000" h="10000">
                  <a:moveTo>
                    <a:pt x="5000" y="0"/>
                  </a:moveTo>
                  <a:cubicBezTo>
                    <a:pt x="2238" y="0"/>
                    <a:pt x="0" y="2238"/>
                    <a:pt x="0" y="5000"/>
                  </a:cubicBezTo>
                  <a:cubicBezTo>
                    <a:pt x="0" y="7761"/>
                    <a:pt x="2238" y="10000"/>
                    <a:pt x="5000" y="10000"/>
                  </a:cubicBezTo>
                  <a:cubicBezTo>
                    <a:pt x="7761" y="10000"/>
                    <a:pt x="10000" y="7761"/>
                    <a:pt x="10000" y="5000"/>
                  </a:cubicBezTo>
                  <a:cubicBezTo>
                    <a:pt x="10000" y="2238"/>
                    <a:pt x="7761" y="0"/>
                    <a:pt x="5000" y="0"/>
                  </a:cubicBezTo>
                  <a:close/>
                  <a:moveTo>
                    <a:pt x="5000" y="0"/>
                  </a:moveTo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" name="Group 32"/>
            <p:cNvGrpSpPr/>
            <p:nvPr/>
          </p:nvGrpSpPr>
          <p:grpSpPr>
            <a:xfrm>
              <a:off x="5924520" y="1736640"/>
              <a:ext cx="664920" cy="649080"/>
              <a:chOff x="5924520" y="1736640"/>
              <a:chExt cx="664920" cy="649080"/>
            </a:xfrm>
          </p:grpSpPr>
          <p:sp>
            <p:nvSpPr>
              <p:cNvPr id="169" name="Freeform 33"/>
              <p:cNvSpPr/>
              <p:nvPr/>
            </p:nvSpPr>
            <p:spPr>
              <a:xfrm>
                <a:off x="5924520" y="1736640"/>
                <a:ext cx="664920" cy="649080"/>
              </a:xfrm>
              <a:custGeom>
                <a:avLst/>
                <a:gdLst>
                  <a:gd name="textAreaLeft" fmla="*/ 0 w 664920"/>
                  <a:gd name="textAreaRight" fmla="*/ 665280 w 664920"/>
                  <a:gd name="textAreaTop" fmla="*/ 0 h 649080"/>
                  <a:gd name="textAreaBottom" fmla="*/ 649440 h 649080"/>
                </a:gdLst>
                <a:ahLst/>
                <a:rect l="textAreaLeft" t="textAreaTop" r="textAreaRight" b="textAreaBottom"/>
                <a:pathLst>
                  <a:path w="10000" h="10000">
                    <a:moveTo>
                      <a:pt x="1193" y="0"/>
                    </a:moveTo>
                    <a:lnTo>
                      <a:pt x="8806" y="0"/>
                    </a:lnTo>
                    <a:cubicBezTo>
                      <a:pt x="9465" y="0"/>
                      <a:pt x="10000" y="547"/>
                      <a:pt x="10000" y="1222"/>
                    </a:cubicBezTo>
                    <a:lnTo>
                      <a:pt x="10000" y="8777"/>
                    </a:lnTo>
                    <a:cubicBezTo>
                      <a:pt x="10000" y="9452"/>
                      <a:pt x="9465" y="10000"/>
                      <a:pt x="8806" y="10000"/>
                    </a:cubicBezTo>
                    <a:lnTo>
                      <a:pt x="1193" y="10000"/>
                    </a:lnTo>
                    <a:cubicBezTo>
                      <a:pt x="534" y="10000"/>
                      <a:pt x="0" y="9452"/>
                      <a:pt x="0" y="8777"/>
                    </a:cubicBezTo>
                    <a:lnTo>
                      <a:pt x="0" y="1222"/>
                    </a:lnTo>
                    <a:cubicBezTo>
                      <a:pt x="0" y="547"/>
                      <a:pt x="534" y="0"/>
                      <a:pt x="1193" y="0"/>
                    </a:cubicBezTo>
                    <a:close/>
                    <a:moveTo>
                      <a:pt x="1193" y="0"/>
                    </a:moveTo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0" name="Group 34"/>
              <p:cNvGrpSpPr/>
              <p:nvPr/>
            </p:nvGrpSpPr>
            <p:grpSpPr>
              <a:xfrm>
                <a:off x="6161040" y="1798560"/>
                <a:ext cx="193680" cy="528480"/>
                <a:chOff x="6161040" y="1798560"/>
                <a:chExt cx="193680" cy="528480"/>
              </a:xfrm>
            </p:grpSpPr>
            <p:sp>
              <p:nvSpPr>
                <p:cNvPr id="171" name="Freeform 35"/>
                <p:cNvSpPr/>
                <p:nvPr/>
              </p:nvSpPr>
              <p:spPr>
                <a:xfrm>
                  <a:off x="6161040" y="1901520"/>
                  <a:ext cx="193680" cy="425520"/>
                </a:xfrm>
                <a:custGeom>
                  <a:avLst/>
                  <a:gdLst>
                    <a:gd name="textAreaLeft" fmla="*/ 0 w 193680"/>
                    <a:gd name="textAreaRight" fmla="*/ 194040 w 193680"/>
                    <a:gd name="textAreaTop" fmla="*/ 0 h 425520"/>
                    <a:gd name="textAreaBottom" fmla="*/ 425880 h 425520"/>
                  </a:gdLst>
                  <a:ahLst/>
                  <a:rect l="textAreaLeft" t="textAreaTop" r="textAreaRight" b="textAreaBottom"/>
                  <a:pathLst>
                    <a:path w="10000" h="10000">
                      <a:moveTo>
                        <a:pt x="2352" y="0"/>
                      </a:moveTo>
                      <a:lnTo>
                        <a:pt x="7647" y="0"/>
                      </a:lnTo>
                      <a:lnTo>
                        <a:pt x="7815" y="0"/>
                      </a:lnTo>
                      <a:lnTo>
                        <a:pt x="7983" y="0"/>
                      </a:lnTo>
                      <a:lnTo>
                        <a:pt x="8067" y="0"/>
                      </a:lnTo>
                      <a:lnTo>
                        <a:pt x="8151" y="37"/>
                      </a:lnTo>
                      <a:lnTo>
                        <a:pt x="8319" y="37"/>
                      </a:lnTo>
                      <a:lnTo>
                        <a:pt x="8403" y="37"/>
                      </a:lnTo>
                      <a:lnTo>
                        <a:pt x="8571" y="74"/>
                      </a:lnTo>
                      <a:lnTo>
                        <a:pt x="8739" y="111"/>
                      </a:lnTo>
                      <a:lnTo>
                        <a:pt x="8823" y="111"/>
                      </a:lnTo>
                      <a:lnTo>
                        <a:pt x="8991" y="149"/>
                      </a:lnTo>
                      <a:lnTo>
                        <a:pt x="9159" y="186"/>
                      </a:lnTo>
                      <a:lnTo>
                        <a:pt x="9243" y="223"/>
                      </a:lnTo>
                      <a:lnTo>
                        <a:pt x="9411" y="298"/>
                      </a:lnTo>
                      <a:lnTo>
                        <a:pt x="9495" y="373"/>
                      </a:lnTo>
                      <a:lnTo>
                        <a:pt x="9579" y="410"/>
                      </a:lnTo>
                      <a:lnTo>
                        <a:pt x="9747" y="485"/>
                      </a:lnTo>
                      <a:lnTo>
                        <a:pt x="9831" y="559"/>
                      </a:lnTo>
                      <a:lnTo>
                        <a:pt x="9915" y="634"/>
                      </a:lnTo>
                      <a:lnTo>
                        <a:pt x="10000" y="671"/>
                      </a:lnTo>
                      <a:lnTo>
                        <a:pt x="10000" y="746"/>
                      </a:lnTo>
                      <a:lnTo>
                        <a:pt x="10000" y="820"/>
                      </a:lnTo>
                      <a:lnTo>
                        <a:pt x="10000" y="4552"/>
                      </a:lnTo>
                      <a:lnTo>
                        <a:pt x="9915" y="4589"/>
                      </a:lnTo>
                      <a:lnTo>
                        <a:pt x="9915" y="4626"/>
                      </a:lnTo>
                      <a:lnTo>
                        <a:pt x="9831" y="4701"/>
                      </a:lnTo>
                      <a:lnTo>
                        <a:pt x="9831" y="4738"/>
                      </a:lnTo>
                      <a:lnTo>
                        <a:pt x="9747" y="4776"/>
                      </a:lnTo>
                      <a:lnTo>
                        <a:pt x="9663" y="4813"/>
                      </a:lnTo>
                      <a:lnTo>
                        <a:pt x="9495" y="4850"/>
                      </a:lnTo>
                      <a:lnTo>
                        <a:pt x="9411" y="4888"/>
                      </a:lnTo>
                      <a:lnTo>
                        <a:pt x="9327" y="4925"/>
                      </a:lnTo>
                      <a:lnTo>
                        <a:pt x="9243" y="4925"/>
                      </a:lnTo>
                      <a:lnTo>
                        <a:pt x="9075" y="4925"/>
                      </a:lnTo>
                      <a:lnTo>
                        <a:pt x="8991" y="4925"/>
                      </a:lnTo>
                      <a:lnTo>
                        <a:pt x="8823" y="4925"/>
                      </a:lnTo>
                      <a:lnTo>
                        <a:pt x="8739" y="4888"/>
                      </a:lnTo>
                      <a:lnTo>
                        <a:pt x="8571" y="4888"/>
                      </a:lnTo>
                      <a:lnTo>
                        <a:pt x="8487" y="4850"/>
                      </a:lnTo>
                      <a:lnTo>
                        <a:pt x="8403" y="4813"/>
                      </a:lnTo>
                      <a:lnTo>
                        <a:pt x="8319" y="4776"/>
                      </a:lnTo>
                      <a:lnTo>
                        <a:pt x="8319" y="4738"/>
                      </a:lnTo>
                      <a:lnTo>
                        <a:pt x="8235" y="4701"/>
                      </a:lnTo>
                      <a:lnTo>
                        <a:pt x="8235" y="4664"/>
                      </a:lnTo>
                      <a:lnTo>
                        <a:pt x="8235" y="4626"/>
                      </a:lnTo>
                      <a:lnTo>
                        <a:pt x="8151" y="4589"/>
                      </a:lnTo>
                      <a:lnTo>
                        <a:pt x="8151" y="4552"/>
                      </a:lnTo>
                      <a:lnTo>
                        <a:pt x="8151" y="1679"/>
                      </a:lnTo>
                      <a:lnTo>
                        <a:pt x="7647" y="1679"/>
                      </a:lnTo>
                      <a:lnTo>
                        <a:pt x="7647" y="9440"/>
                      </a:lnTo>
                      <a:lnTo>
                        <a:pt x="7647" y="9514"/>
                      </a:lnTo>
                      <a:lnTo>
                        <a:pt x="7563" y="9589"/>
                      </a:lnTo>
                      <a:lnTo>
                        <a:pt x="7478" y="9701"/>
                      </a:lnTo>
                      <a:lnTo>
                        <a:pt x="7394" y="9776"/>
                      </a:lnTo>
                      <a:lnTo>
                        <a:pt x="7310" y="9813"/>
                      </a:lnTo>
                      <a:lnTo>
                        <a:pt x="7226" y="9888"/>
                      </a:lnTo>
                      <a:lnTo>
                        <a:pt x="7058" y="9925"/>
                      </a:lnTo>
                      <a:lnTo>
                        <a:pt x="6890" y="9962"/>
                      </a:lnTo>
                      <a:lnTo>
                        <a:pt x="6890" y="10000"/>
                      </a:lnTo>
                      <a:lnTo>
                        <a:pt x="6722" y="10000"/>
                      </a:lnTo>
                      <a:lnTo>
                        <a:pt x="6638" y="10000"/>
                      </a:lnTo>
                      <a:lnTo>
                        <a:pt x="6470" y="10000"/>
                      </a:lnTo>
                      <a:lnTo>
                        <a:pt x="6386" y="10000"/>
                      </a:lnTo>
                      <a:lnTo>
                        <a:pt x="6218" y="10000"/>
                      </a:lnTo>
                      <a:lnTo>
                        <a:pt x="5966" y="10000"/>
                      </a:lnTo>
                      <a:lnTo>
                        <a:pt x="5882" y="9962"/>
                      </a:lnTo>
                      <a:lnTo>
                        <a:pt x="5714" y="9925"/>
                      </a:lnTo>
                      <a:lnTo>
                        <a:pt x="5630" y="9888"/>
                      </a:lnTo>
                      <a:lnTo>
                        <a:pt x="5630" y="9850"/>
                      </a:lnTo>
                      <a:lnTo>
                        <a:pt x="5462" y="9776"/>
                      </a:lnTo>
                      <a:lnTo>
                        <a:pt x="5378" y="9701"/>
                      </a:lnTo>
                      <a:lnTo>
                        <a:pt x="5378" y="9664"/>
                      </a:lnTo>
                      <a:lnTo>
                        <a:pt x="5294" y="9626"/>
                      </a:lnTo>
                      <a:lnTo>
                        <a:pt x="5294" y="9552"/>
                      </a:lnTo>
                      <a:lnTo>
                        <a:pt x="5294" y="9514"/>
                      </a:lnTo>
                      <a:lnTo>
                        <a:pt x="5294" y="4813"/>
                      </a:lnTo>
                      <a:lnTo>
                        <a:pt x="4621" y="4813"/>
                      </a:lnTo>
                      <a:lnTo>
                        <a:pt x="4621" y="9477"/>
                      </a:lnTo>
                      <a:lnTo>
                        <a:pt x="4621" y="9552"/>
                      </a:lnTo>
                      <a:lnTo>
                        <a:pt x="4621" y="9626"/>
                      </a:lnTo>
                      <a:lnTo>
                        <a:pt x="4537" y="9701"/>
                      </a:lnTo>
                      <a:lnTo>
                        <a:pt x="4453" y="9776"/>
                      </a:lnTo>
                      <a:lnTo>
                        <a:pt x="4369" y="9850"/>
                      </a:lnTo>
                      <a:lnTo>
                        <a:pt x="4285" y="9888"/>
                      </a:lnTo>
                      <a:lnTo>
                        <a:pt x="4117" y="9925"/>
                      </a:lnTo>
                      <a:lnTo>
                        <a:pt x="3949" y="9962"/>
                      </a:lnTo>
                      <a:lnTo>
                        <a:pt x="3781" y="10000"/>
                      </a:lnTo>
                      <a:lnTo>
                        <a:pt x="3529" y="10000"/>
                      </a:lnTo>
                      <a:lnTo>
                        <a:pt x="3361" y="10000"/>
                      </a:lnTo>
                      <a:lnTo>
                        <a:pt x="3193" y="10000"/>
                      </a:lnTo>
                      <a:lnTo>
                        <a:pt x="3109" y="10000"/>
                      </a:lnTo>
                      <a:lnTo>
                        <a:pt x="3025" y="9962"/>
                      </a:lnTo>
                      <a:lnTo>
                        <a:pt x="2941" y="9925"/>
                      </a:lnTo>
                      <a:lnTo>
                        <a:pt x="2773" y="9888"/>
                      </a:lnTo>
                      <a:lnTo>
                        <a:pt x="2605" y="9850"/>
                      </a:lnTo>
                      <a:lnTo>
                        <a:pt x="2605" y="9813"/>
                      </a:lnTo>
                      <a:lnTo>
                        <a:pt x="2436" y="9738"/>
                      </a:lnTo>
                      <a:lnTo>
                        <a:pt x="2352" y="9701"/>
                      </a:lnTo>
                      <a:lnTo>
                        <a:pt x="2352" y="9626"/>
                      </a:lnTo>
                      <a:lnTo>
                        <a:pt x="2352" y="9589"/>
                      </a:lnTo>
                      <a:lnTo>
                        <a:pt x="2268" y="9477"/>
                      </a:lnTo>
                      <a:lnTo>
                        <a:pt x="2268" y="1679"/>
                      </a:lnTo>
                      <a:lnTo>
                        <a:pt x="1764" y="1679"/>
                      </a:lnTo>
                      <a:lnTo>
                        <a:pt x="1764" y="4552"/>
                      </a:lnTo>
                      <a:lnTo>
                        <a:pt x="1764" y="4589"/>
                      </a:lnTo>
                      <a:lnTo>
                        <a:pt x="1680" y="4664"/>
                      </a:lnTo>
                      <a:lnTo>
                        <a:pt x="1680" y="4701"/>
                      </a:lnTo>
                      <a:lnTo>
                        <a:pt x="1596" y="4738"/>
                      </a:lnTo>
                      <a:lnTo>
                        <a:pt x="1596" y="4776"/>
                      </a:lnTo>
                      <a:lnTo>
                        <a:pt x="1512" y="4813"/>
                      </a:lnTo>
                      <a:lnTo>
                        <a:pt x="1428" y="4813"/>
                      </a:lnTo>
                      <a:lnTo>
                        <a:pt x="1344" y="4850"/>
                      </a:lnTo>
                      <a:lnTo>
                        <a:pt x="1260" y="4888"/>
                      </a:lnTo>
                      <a:lnTo>
                        <a:pt x="1176" y="4888"/>
                      </a:lnTo>
                      <a:lnTo>
                        <a:pt x="1092" y="4925"/>
                      </a:lnTo>
                      <a:lnTo>
                        <a:pt x="1008" y="4925"/>
                      </a:lnTo>
                      <a:lnTo>
                        <a:pt x="924" y="4925"/>
                      </a:lnTo>
                      <a:lnTo>
                        <a:pt x="672" y="4925"/>
                      </a:lnTo>
                      <a:lnTo>
                        <a:pt x="588" y="4925"/>
                      </a:lnTo>
                      <a:lnTo>
                        <a:pt x="504" y="4888"/>
                      </a:lnTo>
                      <a:lnTo>
                        <a:pt x="420" y="4850"/>
                      </a:lnTo>
                      <a:lnTo>
                        <a:pt x="336" y="4850"/>
                      </a:lnTo>
                      <a:lnTo>
                        <a:pt x="252" y="4813"/>
                      </a:lnTo>
                      <a:lnTo>
                        <a:pt x="168" y="4776"/>
                      </a:lnTo>
                      <a:lnTo>
                        <a:pt x="84" y="4738"/>
                      </a:lnTo>
                      <a:lnTo>
                        <a:pt x="84" y="4701"/>
                      </a:lnTo>
                      <a:lnTo>
                        <a:pt x="0" y="4626"/>
                      </a:lnTo>
                      <a:lnTo>
                        <a:pt x="0" y="4589"/>
                      </a:lnTo>
                      <a:lnTo>
                        <a:pt x="0" y="4552"/>
                      </a:lnTo>
                      <a:lnTo>
                        <a:pt x="0" y="783"/>
                      </a:lnTo>
                      <a:lnTo>
                        <a:pt x="0" y="671"/>
                      </a:lnTo>
                      <a:lnTo>
                        <a:pt x="84" y="597"/>
                      </a:lnTo>
                      <a:lnTo>
                        <a:pt x="168" y="485"/>
                      </a:lnTo>
                      <a:lnTo>
                        <a:pt x="336" y="410"/>
                      </a:lnTo>
                      <a:lnTo>
                        <a:pt x="420" y="373"/>
                      </a:lnTo>
                      <a:lnTo>
                        <a:pt x="588" y="298"/>
                      </a:lnTo>
                      <a:lnTo>
                        <a:pt x="756" y="223"/>
                      </a:lnTo>
                      <a:lnTo>
                        <a:pt x="1008" y="149"/>
                      </a:lnTo>
                      <a:lnTo>
                        <a:pt x="1176" y="111"/>
                      </a:lnTo>
                      <a:lnTo>
                        <a:pt x="1344" y="74"/>
                      </a:lnTo>
                      <a:lnTo>
                        <a:pt x="1680" y="37"/>
                      </a:lnTo>
                      <a:lnTo>
                        <a:pt x="1848" y="0"/>
                      </a:lnTo>
                      <a:lnTo>
                        <a:pt x="2100" y="0"/>
                      </a:lnTo>
                      <a:lnTo>
                        <a:pt x="2352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36"/>
                <p:cNvSpPr/>
                <p:nvPr/>
              </p:nvSpPr>
              <p:spPr>
                <a:xfrm>
                  <a:off x="6216480" y="1798560"/>
                  <a:ext cx="71640" cy="72720"/>
                </a:xfrm>
                <a:custGeom>
                  <a:avLst/>
                  <a:gdLst>
                    <a:gd name="textAreaLeft" fmla="*/ 0 w 71640"/>
                    <a:gd name="textAreaRight" fmla="*/ 72000 w 71640"/>
                    <a:gd name="textAreaTop" fmla="*/ 0 h 72720"/>
                    <a:gd name="textAreaBottom" fmla="*/ 73080 h 72720"/>
                  </a:gdLst>
                  <a:ahLst/>
                  <a:rect l="textAreaLeft" t="textAreaTop" r="textAreaRight" b="textAreaBottom"/>
                  <a:pathLst>
                    <a:path w="10000" h="10000">
                      <a:moveTo>
                        <a:pt x="5000" y="0"/>
                      </a:moveTo>
                      <a:cubicBezTo>
                        <a:pt x="2238" y="0"/>
                        <a:pt x="0" y="2238"/>
                        <a:pt x="0" y="5000"/>
                      </a:cubicBezTo>
                      <a:cubicBezTo>
                        <a:pt x="0" y="7761"/>
                        <a:pt x="2238" y="10000"/>
                        <a:pt x="5000" y="10000"/>
                      </a:cubicBezTo>
                      <a:cubicBezTo>
                        <a:pt x="7761" y="10000"/>
                        <a:pt x="10000" y="7761"/>
                        <a:pt x="10000" y="5000"/>
                      </a:cubicBezTo>
                      <a:cubicBezTo>
                        <a:pt x="10000" y="2238"/>
                        <a:pt x="7761" y="0"/>
                        <a:pt x="5000" y="0"/>
                      </a:cubicBezTo>
                      <a:close/>
                      <a:moveTo>
                        <a:pt x="5000" y="0"/>
                      </a:move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Group 37"/>
            <p:cNvGrpSpPr/>
            <p:nvPr/>
          </p:nvGrpSpPr>
          <p:grpSpPr>
            <a:xfrm>
              <a:off x="6381720" y="1888920"/>
              <a:ext cx="666720" cy="649440"/>
              <a:chOff x="6381720" y="1888920"/>
              <a:chExt cx="666720" cy="649440"/>
            </a:xfrm>
          </p:grpSpPr>
          <p:sp>
            <p:nvSpPr>
              <p:cNvPr id="174" name="Freeform 38"/>
              <p:cNvSpPr/>
              <p:nvPr/>
            </p:nvSpPr>
            <p:spPr>
              <a:xfrm>
                <a:off x="6381720" y="1888920"/>
                <a:ext cx="666720" cy="649440"/>
              </a:xfrm>
              <a:custGeom>
                <a:avLst/>
                <a:gdLst>
                  <a:gd name="textAreaLeft" fmla="*/ 0 w 666720"/>
                  <a:gd name="textAreaRight" fmla="*/ 667080 w 666720"/>
                  <a:gd name="textAreaTop" fmla="*/ 0 h 649440"/>
                  <a:gd name="textAreaBottom" fmla="*/ 649800 h 649440"/>
                </a:gdLst>
                <a:ahLst/>
                <a:rect l="textAreaLeft" t="textAreaTop" r="textAreaRight" b="textAreaBottom"/>
                <a:pathLst>
                  <a:path w="10000" h="10000">
                    <a:moveTo>
                      <a:pt x="1190" y="0"/>
                    </a:moveTo>
                    <a:lnTo>
                      <a:pt x="8809" y="0"/>
                    </a:lnTo>
                    <a:cubicBezTo>
                      <a:pt x="9466" y="0"/>
                      <a:pt x="10000" y="547"/>
                      <a:pt x="10000" y="1222"/>
                    </a:cubicBezTo>
                    <a:lnTo>
                      <a:pt x="10000" y="8777"/>
                    </a:lnTo>
                    <a:cubicBezTo>
                      <a:pt x="10000" y="9452"/>
                      <a:pt x="9466" y="10000"/>
                      <a:pt x="8809" y="10000"/>
                    </a:cubicBezTo>
                    <a:lnTo>
                      <a:pt x="1190" y="10000"/>
                    </a:lnTo>
                    <a:cubicBezTo>
                      <a:pt x="533" y="10000"/>
                      <a:pt x="0" y="9452"/>
                      <a:pt x="0" y="8777"/>
                    </a:cubicBezTo>
                    <a:lnTo>
                      <a:pt x="0" y="1222"/>
                    </a:lnTo>
                    <a:cubicBezTo>
                      <a:pt x="0" y="547"/>
                      <a:pt x="533" y="0"/>
                      <a:pt x="1190" y="0"/>
                    </a:cubicBezTo>
                    <a:close/>
                    <a:moveTo>
                      <a:pt x="1190" y="0"/>
                    </a:moveTo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Group 39"/>
              <p:cNvGrpSpPr/>
              <p:nvPr/>
            </p:nvGrpSpPr>
            <p:grpSpPr>
              <a:xfrm>
                <a:off x="6618240" y="1950840"/>
                <a:ext cx="195120" cy="528480"/>
                <a:chOff x="6618240" y="1950840"/>
                <a:chExt cx="195120" cy="528480"/>
              </a:xfrm>
            </p:grpSpPr>
            <p:sp>
              <p:nvSpPr>
                <p:cNvPr id="176" name="Freeform 40"/>
                <p:cNvSpPr/>
                <p:nvPr/>
              </p:nvSpPr>
              <p:spPr>
                <a:xfrm>
                  <a:off x="6618240" y="2054160"/>
                  <a:ext cx="195120" cy="425160"/>
                </a:xfrm>
                <a:custGeom>
                  <a:avLst/>
                  <a:gdLst>
                    <a:gd name="textAreaLeft" fmla="*/ 0 w 195120"/>
                    <a:gd name="textAreaRight" fmla="*/ 195480 w 195120"/>
                    <a:gd name="textAreaTop" fmla="*/ 0 h 425160"/>
                    <a:gd name="textAreaBottom" fmla="*/ 425520 h 425160"/>
                  </a:gdLst>
                  <a:ahLst/>
                  <a:rect l="textAreaLeft" t="textAreaTop" r="textAreaRight" b="textAreaBottom"/>
                  <a:pathLst>
                    <a:path w="10000" h="10000">
                      <a:moveTo>
                        <a:pt x="2333" y="0"/>
                      </a:moveTo>
                      <a:lnTo>
                        <a:pt x="7666" y="0"/>
                      </a:lnTo>
                      <a:lnTo>
                        <a:pt x="7833" y="0"/>
                      </a:lnTo>
                      <a:lnTo>
                        <a:pt x="7999" y="0"/>
                      </a:lnTo>
                      <a:lnTo>
                        <a:pt x="8083" y="0"/>
                      </a:lnTo>
                      <a:lnTo>
                        <a:pt x="8166" y="37"/>
                      </a:lnTo>
                      <a:lnTo>
                        <a:pt x="8333" y="37"/>
                      </a:lnTo>
                      <a:lnTo>
                        <a:pt x="8416" y="37"/>
                      </a:lnTo>
                      <a:lnTo>
                        <a:pt x="8583" y="74"/>
                      </a:lnTo>
                      <a:lnTo>
                        <a:pt x="8750" y="111"/>
                      </a:lnTo>
                      <a:lnTo>
                        <a:pt x="8833" y="111"/>
                      </a:lnTo>
                      <a:lnTo>
                        <a:pt x="8999" y="149"/>
                      </a:lnTo>
                      <a:lnTo>
                        <a:pt x="9166" y="186"/>
                      </a:lnTo>
                      <a:lnTo>
                        <a:pt x="9249" y="223"/>
                      </a:lnTo>
                      <a:lnTo>
                        <a:pt x="9416" y="298"/>
                      </a:lnTo>
                      <a:lnTo>
                        <a:pt x="9499" y="373"/>
                      </a:lnTo>
                      <a:lnTo>
                        <a:pt x="9583" y="410"/>
                      </a:lnTo>
                      <a:lnTo>
                        <a:pt x="9749" y="485"/>
                      </a:lnTo>
                      <a:lnTo>
                        <a:pt x="9833" y="559"/>
                      </a:lnTo>
                      <a:lnTo>
                        <a:pt x="9916" y="634"/>
                      </a:lnTo>
                      <a:lnTo>
                        <a:pt x="10000" y="671"/>
                      </a:lnTo>
                      <a:lnTo>
                        <a:pt x="10000" y="746"/>
                      </a:lnTo>
                      <a:lnTo>
                        <a:pt x="10000" y="820"/>
                      </a:lnTo>
                      <a:lnTo>
                        <a:pt x="10000" y="4552"/>
                      </a:lnTo>
                      <a:lnTo>
                        <a:pt x="9916" y="4589"/>
                      </a:lnTo>
                      <a:lnTo>
                        <a:pt x="9916" y="4626"/>
                      </a:lnTo>
                      <a:lnTo>
                        <a:pt x="9833" y="4701"/>
                      </a:lnTo>
                      <a:lnTo>
                        <a:pt x="9833" y="4738"/>
                      </a:lnTo>
                      <a:lnTo>
                        <a:pt x="9749" y="4776"/>
                      </a:lnTo>
                      <a:lnTo>
                        <a:pt x="9666" y="4813"/>
                      </a:lnTo>
                      <a:lnTo>
                        <a:pt x="9499" y="4850"/>
                      </a:lnTo>
                      <a:lnTo>
                        <a:pt x="9416" y="4888"/>
                      </a:lnTo>
                      <a:lnTo>
                        <a:pt x="9333" y="4925"/>
                      </a:lnTo>
                      <a:lnTo>
                        <a:pt x="9249" y="4925"/>
                      </a:lnTo>
                      <a:lnTo>
                        <a:pt x="9083" y="4925"/>
                      </a:lnTo>
                      <a:lnTo>
                        <a:pt x="8999" y="4925"/>
                      </a:lnTo>
                      <a:lnTo>
                        <a:pt x="8833" y="4925"/>
                      </a:lnTo>
                      <a:lnTo>
                        <a:pt x="8750" y="4888"/>
                      </a:lnTo>
                      <a:lnTo>
                        <a:pt x="8583" y="4888"/>
                      </a:lnTo>
                      <a:lnTo>
                        <a:pt x="8499" y="4850"/>
                      </a:lnTo>
                      <a:lnTo>
                        <a:pt x="8416" y="4813"/>
                      </a:lnTo>
                      <a:lnTo>
                        <a:pt x="8333" y="4776"/>
                      </a:lnTo>
                      <a:lnTo>
                        <a:pt x="8333" y="4738"/>
                      </a:lnTo>
                      <a:lnTo>
                        <a:pt x="8249" y="4701"/>
                      </a:lnTo>
                      <a:lnTo>
                        <a:pt x="8249" y="4664"/>
                      </a:lnTo>
                      <a:lnTo>
                        <a:pt x="8249" y="4626"/>
                      </a:lnTo>
                      <a:lnTo>
                        <a:pt x="8166" y="4589"/>
                      </a:lnTo>
                      <a:lnTo>
                        <a:pt x="8166" y="4552"/>
                      </a:lnTo>
                      <a:lnTo>
                        <a:pt x="8166" y="1716"/>
                      </a:lnTo>
                      <a:lnTo>
                        <a:pt x="7666" y="1716"/>
                      </a:lnTo>
                      <a:lnTo>
                        <a:pt x="7666" y="9440"/>
                      </a:lnTo>
                      <a:lnTo>
                        <a:pt x="7666" y="9514"/>
                      </a:lnTo>
                      <a:lnTo>
                        <a:pt x="7583" y="9589"/>
                      </a:lnTo>
                      <a:lnTo>
                        <a:pt x="7416" y="9701"/>
                      </a:lnTo>
                      <a:lnTo>
                        <a:pt x="7333" y="9776"/>
                      </a:lnTo>
                      <a:lnTo>
                        <a:pt x="7249" y="9813"/>
                      </a:lnTo>
                      <a:lnTo>
                        <a:pt x="7166" y="9888"/>
                      </a:lnTo>
                      <a:lnTo>
                        <a:pt x="6999" y="9925"/>
                      </a:lnTo>
                      <a:lnTo>
                        <a:pt x="6916" y="9962"/>
                      </a:lnTo>
                      <a:lnTo>
                        <a:pt x="6833" y="10000"/>
                      </a:lnTo>
                      <a:lnTo>
                        <a:pt x="6666" y="10000"/>
                      </a:lnTo>
                      <a:lnTo>
                        <a:pt x="6583" y="10000"/>
                      </a:lnTo>
                      <a:lnTo>
                        <a:pt x="6416" y="10000"/>
                      </a:lnTo>
                      <a:lnTo>
                        <a:pt x="6333" y="10000"/>
                      </a:lnTo>
                      <a:lnTo>
                        <a:pt x="6166" y="10000"/>
                      </a:lnTo>
                      <a:lnTo>
                        <a:pt x="5916" y="10000"/>
                      </a:lnTo>
                      <a:lnTo>
                        <a:pt x="5833" y="9962"/>
                      </a:lnTo>
                      <a:lnTo>
                        <a:pt x="5666" y="9925"/>
                      </a:lnTo>
                      <a:lnTo>
                        <a:pt x="5666" y="9888"/>
                      </a:lnTo>
                      <a:lnTo>
                        <a:pt x="5583" y="9850"/>
                      </a:lnTo>
                      <a:lnTo>
                        <a:pt x="5416" y="9776"/>
                      </a:lnTo>
                      <a:lnTo>
                        <a:pt x="5333" y="9701"/>
                      </a:lnTo>
                      <a:lnTo>
                        <a:pt x="5333" y="9664"/>
                      </a:lnTo>
                      <a:lnTo>
                        <a:pt x="5249" y="9626"/>
                      </a:lnTo>
                      <a:lnTo>
                        <a:pt x="5249" y="9552"/>
                      </a:lnTo>
                      <a:lnTo>
                        <a:pt x="5249" y="9514"/>
                      </a:lnTo>
                      <a:lnTo>
                        <a:pt x="5249" y="4813"/>
                      </a:lnTo>
                      <a:lnTo>
                        <a:pt x="4583" y="4813"/>
                      </a:lnTo>
                      <a:lnTo>
                        <a:pt x="4583" y="9477"/>
                      </a:lnTo>
                      <a:lnTo>
                        <a:pt x="4583" y="9552"/>
                      </a:lnTo>
                      <a:lnTo>
                        <a:pt x="4583" y="9626"/>
                      </a:lnTo>
                      <a:lnTo>
                        <a:pt x="4499" y="9701"/>
                      </a:lnTo>
                      <a:lnTo>
                        <a:pt x="4416" y="9776"/>
                      </a:lnTo>
                      <a:lnTo>
                        <a:pt x="4333" y="9850"/>
                      </a:lnTo>
                      <a:lnTo>
                        <a:pt x="4250" y="9888"/>
                      </a:lnTo>
                      <a:lnTo>
                        <a:pt x="4083" y="9925"/>
                      </a:lnTo>
                      <a:lnTo>
                        <a:pt x="3916" y="9962"/>
                      </a:lnTo>
                      <a:lnTo>
                        <a:pt x="3750" y="10000"/>
                      </a:lnTo>
                      <a:lnTo>
                        <a:pt x="3499" y="10000"/>
                      </a:lnTo>
                      <a:lnTo>
                        <a:pt x="3333" y="10000"/>
                      </a:lnTo>
                      <a:lnTo>
                        <a:pt x="3166" y="10000"/>
                      </a:lnTo>
                      <a:lnTo>
                        <a:pt x="3000" y="9962"/>
                      </a:lnTo>
                      <a:lnTo>
                        <a:pt x="2916" y="9925"/>
                      </a:lnTo>
                      <a:lnTo>
                        <a:pt x="2749" y="9888"/>
                      </a:lnTo>
                      <a:lnTo>
                        <a:pt x="2583" y="9850"/>
                      </a:lnTo>
                      <a:lnTo>
                        <a:pt x="2583" y="9813"/>
                      </a:lnTo>
                      <a:lnTo>
                        <a:pt x="2416" y="9738"/>
                      </a:lnTo>
                      <a:lnTo>
                        <a:pt x="2333" y="9701"/>
                      </a:lnTo>
                      <a:lnTo>
                        <a:pt x="2333" y="9626"/>
                      </a:lnTo>
                      <a:lnTo>
                        <a:pt x="2333" y="9589"/>
                      </a:lnTo>
                      <a:lnTo>
                        <a:pt x="2250" y="9477"/>
                      </a:lnTo>
                      <a:lnTo>
                        <a:pt x="2250" y="1716"/>
                      </a:lnTo>
                      <a:lnTo>
                        <a:pt x="1750" y="1716"/>
                      </a:lnTo>
                      <a:lnTo>
                        <a:pt x="1750" y="4552"/>
                      </a:lnTo>
                      <a:lnTo>
                        <a:pt x="1750" y="4589"/>
                      </a:lnTo>
                      <a:lnTo>
                        <a:pt x="1666" y="4664"/>
                      </a:lnTo>
                      <a:lnTo>
                        <a:pt x="1666" y="4701"/>
                      </a:lnTo>
                      <a:lnTo>
                        <a:pt x="1583" y="4738"/>
                      </a:lnTo>
                      <a:lnTo>
                        <a:pt x="1583" y="4776"/>
                      </a:lnTo>
                      <a:lnTo>
                        <a:pt x="1499" y="4813"/>
                      </a:lnTo>
                      <a:lnTo>
                        <a:pt x="1416" y="4813"/>
                      </a:lnTo>
                      <a:lnTo>
                        <a:pt x="1333" y="4850"/>
                      </a:lnTo>
                      <a:lnTo>
                        <a:pt x="1250" y="4888"/>
                      </a:lnTo>
                      <a:lnTo>
                        <a:pt x="1166" y="4888"/>
                      </a:lnTo>
                      <a:lnTo>
                        <a:pt x="1083" y="4925"/>
                      </a:lnTo>
                      <a:lnTo>
                        <a:pt x="1000" y="4925"/>
                      </a:lnTo>
                      <a:lnTo>
                        <a:pt x="916" y="4925"/>
                      </a:lnTo>
                      <a:lnTo>
                        <a:pt x="666" y="4925"/>
                      </a:lnTo>
                      <a:lnTo>
                        <a:pt x="500" y="4888"/>
                      </a:lnTo>
                      <a:lnTo>
                        <a:pt x="416" y="4850"/>
                      </a:lnTo>
                      <a:lnTo>
                        <a:pt x="333" y="4850"/>
                      </a:lnTo>
                      <a:lnTo>
                        <a:pt x="250" y="4813"/>
                      </a:lnTo>
                      <a:lnTo>
                        <a:pt x="166" y="4776"/>
                      </a:lnTo>
                      <a:lnTo>
                        <a:pt x="83" y="4738"/>
                      </a:lnTo>
                      <a:lnTo>
                        <a:pt x="83" y="4701"/>
                      </a:lnTo>
                      <a:lnTo>
                        <a:pt x="0" y="4626"/>
                      </a:lnTo>
                      <a:lnTo>
                        <a:pt x="0" y="4589"/>
                      </a:lnTo>
                      <a:lnTo>
                        <a:pt x="0" y="4552"/>
                      </a:lnTo>
                      <a:lnTo>
                        <a:pt x="0" y="783"/>
                      </a:lnTo>
                      <a:lnTo>
                        <a:pt x="0" y="671"/>
                      </a:lnTo>
                      <a:lnTo>
                        <a:pt x="83" y="597"/>
                      </a:lnTo>
                      <a:lnTo>
                        <a:pt x="166" y="485"/>
                      </a:lnTo>
                      <a:lnTo>
                        <a:pt x="333" y="410"/>
                      </a:lnTo>
                      <a:lnTo>
                        <a:pt x="416" y="373"/>
                      </a:lnTo>
                      <a:lnTo>
                        <a:pt x="583" y="298"/>
                      </a:lnTo>
                      <a:lnTo>
                        <a:pt x="750" y="223"/>
                      </a:lnTo>
                      <a:lnTo>
                        <a:pt x="1000" y="149"/>
                      </a:lnTo>
                      <a:lnTo>
                        <a:pt x="1166" y="111"/>
                      </a:lnTo>
                      <a:lnTo>
                        <a:pt x="1333" y="74"/>
                      </a:lnTo>
                      <a:lnTo>
                        <a:pt x="1666" y="37"/>
                      </a:lnTo>
                      <a:lnTo>
                        <a:pt x="1916" y="0"/>
                      </a:lnTo>
                      <a:lnTo>
                        <a:pt x="2083" y="0"/>
                      </a:lnTo>
                      <a:lnTo>
                        <a:pt x="2333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Freeform 41"/>
                <p:cNvSpPr/>
                <p:nvPr/>
              </p:nvSpPr>
              <p:spPr>
                <a:xfrm>
                  <a:off x="6673680" y="1950840"/>
                  <a:ext cx="70920" cy="73080"/>
                </a:xfrm>
                <a:custGeom>
                  <a:avLst/>
                  <a:gdLst>
                    <a:gd name="textAreaLeft" fmla="*/ 0 w 70920"/>
                    <a:gd name="textAreaRight" fmla="*/ 71280 w 70920"/>
                    <a:gd name="textAreaTop" fmla="*/ 0 h 73080"/>
                    <a:gd name="textAreaBottom" fmla="*/ 73440 h 73080"/>
                  </a:gdLst>
                  <a:ahLst/>
                  <a:rect l="textAreaLeft" t="textAreaTop" r="textAreaRight" b="textAreaBottom"/>
                  <a:pathLst>
                    <a:path w="10000" h="10000">
                      <a:moveTo>
                        <a:pt x="5000" y="0"/>
                      </a:moveTo>
                      <a:cubicBezTo>
                        <a:pt x="2238" y="0"/>
                        <a:pt x="0" y="2238"/>
                        <a:pt x="0" y="5000"/>
                      </a:cubicBezTo>
                      <a:cubicBezTo>
                        <a:pt x="0" y="7761"/>
                        <a:pt x="2238" y="10000"/>
                        <a:pt x="5000" y="10000"/>
                      </a:cubicBezTo>
                      <a:cubicBezTo>
                        <a:pt x="7761" y="10000"/>
                        <a:pt x="10000" y="7761"/>
                        <a:pt x="10000" y="5000"/>
                      </a:cubicBezTo>
                      <a:cubicBezTo>
                        <a:pt x="10000" y="2238"/>
                        <a:pt x="7761" y="0"/>
                        <a:pt x="5000" y="0"/>
                      </a:cubicBezTo>
                      <a:close/>
                      <a:moveTo>
                        <a:pt x="5000" y="0"/>
                      </a:move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640" bIns="26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Group 42"/>
            <p:cNvGrpSpPr/>
            <p:nvPr/>
          </p:nvGrpSpPr>
          <p:grpSpPr>
            <a:xfrm>
              <a:off x="4498920" y="1979640"/>
              <a:ext cx="1562040" cy="304560"/>
              <a:chOff x="4498920" y="1979640"/>
              <a:chExt cx="1562040" cy="304560"/>
            </a:xfrm>
          </p:grpSpPr>
          <p:sp>
            <p:nvSpPr>
              <p:cNvPr id="179" name="Freeform 43"/>
              <p:cNvSpPr/>
              <p:nvPr/>
            </p:nvSpPr>
            <p:spPr>
              <a:xfrm>
                <a:off x="4498920" y="1979640"/>
                <a:ext cx="1549440" cy="293400"/>
              </a:xfrm>
              <a:custGeom>
                <a:avLst/>
                <a:gdLst>
                  <a:gd name="textAreaLeft" fmla="*/ 0 w 1549440"/>
                  <a:gd name="textAreaRight" fmla="*/ 1549800 w 1549440"/>
                  <a:gd name="textAreaTop" fmla="*/ 0 h 293400"/>
                  <a:gd name="textAreaBottom" fmla="*/ 293760 h 293400"/>
                </a:gdLst>
                <a:ahLst/>
                <a:rect l="textAreaLeft" t="textAreaTop" r="textAreaRight" b="textAreaBottom"/>
                <a:pathLst>
                  <a:path w="10000" h="10000">
                    <a:moveTo>
                      <a:pt x="0" y="10000"/>
                    </a:moveTo>
                    <a:lnTo>
                      <a:pt x="3662" y="0"/>
                    </a:lnTo>
                    <a:lnTo>
                      <a:pt x="10000" y="0"/>
                    </a:lnTo>
                    <a:lnTo>
                      <a:pt x="6337" y="10000"/>
                    </a:lnTo>
                    <a:lnTo>
                      <a:pt x="0" y="10000"/>
                    </a:lnTo>
                  </a:path>
                </a:pathLst>
              </a:custGeom>
              <a:gradFill rotWithShape="0">
                <a:gsLst>
                  <a:gs pos="0">
                    <a:srgbClr val="e2bdff"/>
                  </a:gs>
                  <a:gs pos="100000">
                    <a:srgbClr val="fdf9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Freeform 44"/>
              <p:cNvSpPr/>
              <p:nvPr/>
            </p:nvSpPr>
            <p:spPr>
              <a:xfrm>
                <a:off x="4498920" y="1979640"/>
                <a:ext cx="1562040" cy="304560"/>
              </a:xfrm>
              <a:custGeom>
                <a:avLst/>
                <a:gdLst>
                  <a:gd name="textAreaLeft" fmla="*/ 0 w 1562040"/>
                  <a:gd name="textAreaRight" fmla="*/ 1562400 w 1562040"/>
                  <a:gd name="textAreaTop" fmla="*/ 0 h 304560"/>
                  <a:gd name="textAreaBottom" fmla="*/ 304920 h 304560"/>
                </a:gdLst>
                <a:ahLst/>
                <a:rect l="textAreaLeft" t="textAreaTop" r="textAreaRight" b="textAreaBottom"/>
                <a:pathLst>
                  <a:path w="10000" h="10000">
                    <a:moveTo>
                      <a:pt x="0" y="10000"/>
                    </a:moveTo>
                    <a:lnTo>
                      <a:pt x="3662" y="0"/>
                    </a:lnTo>
                    <a:lnTo>
                      <a:pt x="10000" y="0"/>
                    </a:lnTo>
                    <a:lnTo>
                      <a:pt x="6337" y="10000"/>
                    </a:lnTo>
                    <a:lnTo>
                      <a:pt x="0" y="1000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1" name="Group 45"/>
            <p:cNvGrpSpPr/>
            <p:nvPr/>
          </p:nvGrpSpPr>
          <p:grpSpPr>
            <a:xfrm>
              <a:off x="3962520" y="1341360"/>
              <a:ext cx="1971720" cy="642600"/>
              <a:chOff x="3962520" y="1341360"/>
              <a:chExt cx="1971720" cy="642600"/>
            </a:xfrm>
          </p:grpSpPr>
          <p:sp>
            <p:nvSpPr>
              <p:cNvPr id="182" name="Freeform 46"/>
              <p:cNvSpPr/>
              <p:nvPr/>
            </p:nvSpPr>
            <p:spPr>
              <a:xfrm>
                <a:off x="3962520" y="1380960"/>
                <a:ext cx="1971720" cy="363600"/>
              </a:xfrm>
              <a:custGeom>
                <a:avLst/>
                <a:gdLst>
                  <a:gd name="textAreaLeft" fmla="*/ 0 w 1971720"/>
                  <a:gd name="textAreaRight" fmla="*/ 1971720 w 1971720"/>
                  <a:gd name="textAreaTop" fmla="*/ 0 h 363600"/>
                  <a:gd name="textAreaBottom" fmla="*/ 363960 h 363600"/>
                </a:gdLst>
                <a:ahLst/>
                <a:rect l="textAreaLeft" t="textAreaTop" r="textAreaRight" b="textAreaBottom"/>
                <a:pathLst>
                  <a:path w="10000" h="10000">
                    <a:moveTo>
                      <a:pt x="0" y="0"/>
                    </a:moveTo>
                    <a:lnTo>
                      <a:pt x="10000" y="0"/>
                    </a:lnTo>
                    <a:lnTo>
                      <a:pt x="10000" y="10000"/>
                    </a:lnTo>
                    <a:lnTo>
                      <a:pt x="0" y="1000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Text Box 47"/>
              <p:cNvSpPr/>
              <p:nvPr/>
            </p:nvSpPr>
            <p:spPr>
              <a:xfrm>
                <a:off x="3964680" y="1341360"/>
                <a:ext cx="17287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7000">
                  <a:lnSpc>
                    <a:spcPts val="2160"/>
                  </a:lnSpc>
                  <a:tabLst>
                    <a:tab algn="l" pos="0"/>
                    <a:tab algn="l" pos="90360"/>
                    <a:tab algn="l" pos="1004760"/>
                    <a:tab algn="l" pos="191916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Representation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27000">
                  <a:lnSpc>
                    <a:spcPts val="2160"/>
                  </a:lnSpc>
                  <a:tabLst>
                    <a:tab algn="l" pos="0"/>
                    <a:tab algn="l" pos="90360"/>
                    <a:tab algn="l" pos="1004760"/>
                    <a:tab algn="l" pos="191916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4" name="Group 48"/>
          <p:cNvGrpSpPr/>
          <p:nvPr/>
        </p:nvGrpSpPr>
        <p:grpSpPr>
          <a:xfrm>
            <a:off x="4448160" y="3141720"/>
            <a:ext cx="2187720" cy="642600"/>
            <a:chOff x="4448160" y="3141720"/>
            <a:chExt cx="2187720" cy="642600"/>
          </a:xfrm>
        </p:grpSpPr>
        <p:grpSp>
          <p:nvGrpSpPr>
            <p:cNvPr id="185" name="Group 49"/>
            <p:cNvGrpSpPr/>
            <p:nvPr/>
          </p:nvGrpSpPr>
          <p:grpSpPr>
            <a:xfrm>
              <a:off x="4448160" y="3417480"/>
              <a:ext cx="2181240" cy="285120"/>
              <a:chOff x="4448160" y="3417480"/>
              <a:chExt cx="2181240" cy="285120"/>
            </a:xfrm>
          </p:grpSpPr>
          <p:sp>
            <p:nvSpPr>
              <p:cNvPr id="186" name="Line 50"/>
              <p:cNvSpPr/>
              <p:nvPr/>
            </p:nvSpPr>
            <p:spPr>
              <a:xfrm>
                <a:off x="4448160" y="3417480"/>
                <a:ext cx="1962360" cy="213840"/>
              </a:xfrm>
              <a:prstGeom prst="line">
                <a:avLst/>
              </a:prstGeom>
              <a:ln w="50760">
                <a:solidFill>
                  <a:srgbClr val="12b63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Freeform 51"/>
              <p:cNvSpPr/>
              <p:nvPr/>
            </p:nvSpPr>
            <p:spPr>
              <a:xfrm>
                <a:off x="6224760" y="3547440"/>
                <a:ext cx="404640" cy="155160"/>
              </a:xfrm>
              <a:custGeom>
                <a:avLst/>
                <a:gdLst>
                  <a:gd name="textAreaLeft" fmla="*/ 0 w 404640"/>
                  <a:gd name="textAreaRight" fmla="*/ 405000 w 404640"/>
                  <a:gd name="textAreaTop" fmla="*/ 0 h 155160"/>
                  <a:gd name="textAreaBottom" fmla="*/ 155520 h 155160"/>
                </a:gdLst>
                <a:ahLst/>
                <a:rect l="textAreaLeft" t="textAreaTop" r="textAreaRight" b="textAreaBottom"/>
                <a:pathLst>
                  <a:path w="10000" h="10000">
                    <a:moveTo>
                      <a:pt x="10000" y="8137"/>
                    </a:moveTo>
                    <a:lnTo>
                      <a:pt x="989" y="0"/>
                    </a:lnTo>
                    <a:lnTo>
                      <a:pt x="0" y="10000"/>
                    </a:lnTo>
                    <a:lnTo>
                      <a:pt x="10000" y="8137"/>
                    </a:lnTo>
                  </a:path>
                </a:pathLst>
              </a:custGeom>
              <a:solidFill>
                <a:srgbClr val="12b63d"/>
              </a:solidFill>
              <a:ln w="9360">
                <a:solidFill>
                  <a:srgbClr val="12b63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8" name="Group 52"/>
            <p:cNvGrpSpPr/>
            <p:nvPr/>
          </p:nvGrpSpPr>
          <p:grpSpPr>
            <a:xfrm>
              <a:off x="4727520" y="3141720"/>
              <a:ext cx="1908360" cy="642600"/>
              <a:chOff x="4727520" y="3141720"/>
              <a:chExt cx="1908360" cy="642600"/>
            </a:xfrm>
          </p:grpSpPr>
          <p:sp>
            <p:nvSpPr>
              <p:cNvPr id="189" name="Freeform 53"/>
              <p:cNvSpPr/>
              <p:nvPr/>
            </p:nvSpPr>
            <p:spPr>
              <a:xfrm>
                <a:off x="4727520" y="3171600"/>
                <a:ext cx="1908360" cy="363240"/>
              </a:xfrm>
              <a:custGeom>
                <a:avLst/>
                <a:gdLst>
                  <a:gd name="textAreaLeft" fmla="*/ 0 w 1908360"/>
                  <a:gd name="textAreaRight" fmla="*/ 1908720 w 1908360"/>
                  <a:gd name="textAreaTop" fmla="*/ 0 h 363240"/>
                  <a:gd name="textAreaBottom" fmla="*/ 363600 h 363240"/>
                </a:gdLst>
                <a:ahLst/>
                <a:rect l="textAreaLeft" t="textAreaTop" r="textAreaRight" b="textAreaBottom"/>
                <a:pathLst>
                  <a:path w="10000" h="10000">
                    <a:moveTo>
                      <a:pt x="0" y="0"/>
                    </a:moveTo>
                    <a:lnTo>
                      <a:pt x="10000" y="0"/>
                    </a:lnTo>
                    <a:lnTo>
                      <a:pt x="10000" y="10000"/>
                    </a:lnTo>
                    <a:lnTo>
                      <a:pt x="0" y="1000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Text Box 54"/>
              <p:cNvSpPr/>
              <p:nvPr/>
            </p:nvSpPr>
            <p:spPr>
              <a:xfrm>
                <a:off x="4736160" y="3141720"/>
                <a:ext cx="1683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7000">
                  <a:lnSpc>
                    <a:spcPts val="2160"/>
                  </a:lnSpc>
                  <a:tabLst>
                    <a:tab algn="l" pos="0"/>
                    <a:tab algn="l" pos="90360"/>
                    <a:tab algn="l" pos="10047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2b63d"/>
                    </a:solidFill>
                    <a:latin typeface="Calibri"/>
                  </a:rPr>
                  <a:t>Communicatio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27000">
                  <a:lnSpc>
                    <a:spcPts val="2160"/>
                  </a:lnSpc>
                  <a:tabLst>
                    <a:tab algn="l" pos="0"/>
                    <a:tab algn="l" pos="90360"/>
                    <a:tab algn="l" pos="10047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91" name="Group 55"/>
          <p:cNvGrpSpPr/>
          <p:nvPr/>
        </p:nvGrpSpPr>
        <p:grpSpPr>
          <a:xfrm>
            <a:off x="4110120" y="4143240"/>
            <a:ext cx="1103760" cy="1042920"/>
            <a:chOff x="4110120" y="4143240"/>
            <a:chExt cx="1103760" cy="1042920"/>
          </a:xfrm>
        </p:grpSpPr>
        <p:grpSp>
          <p:nvGrpSpPr>
            <p:cNvPr id="192" name="Group 56"/>
            <p:cNvGrpSpPr/>
            <p:nvPr/>
          </p:nvGrpSpPr>
          <p:grpSpPr>
            <a:xfrm>
              <a:off x="4110120" y="4143240"/>
              <a:ext cx="626760" cy="1042920"/>
              <a:chOff x="4110120" y="4143240"/>
              <a:chExt cx="626760" cy="1042920"/>
            </a:xfrm>
          </p:grpSpPr>
          <p:sp>
            <p:nvSpPr>
              <p:cNvPr id="193" name="Line 57"/>
              <p:cNvSpPr/>
              <p:nvPr/>
            </p:nvSpPr>
            <p:spPr>
              <a:xfrm>
                <a:off x="4110120" y="4143240"/>
                <a:ext cx="412560" cy="690480"/>
              </a:xfrm>
              <a:prstGeom prst="line">
                <a:avLst/>
              </a:prstGeom>
              <a:ln w="50760">
                <a:solidFill>
                  <a:srgbClr val="12b63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Freeform 58"/>
              <p:cNvSpPr/>
              <p:nvPr/>
            </p:nvSpPr>
            <p:spPr>
              <a:xfrm>
                <a:off x="4360680" y="4608360"/>
                <a:ext cx="376200" cy="577800"/>
              </a:xfrm>
              <a:custGeom>
                <a:avLst/>
                <a:gdLst>
                  <a:gd name="textAreaLeft" fmla="*/ 0 w 376200"/>
                  <a:gd name="textAreaRight" fmla="*/ 376560 w 37620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10000" h="10000">
                    <a:moveTo>
                      <a:pt x="10000" y="10000"/>
                    </a:moveTo>
                    <a:lnTo>
                      <a:pt x="5063" y="0"/>
                    </a:lnTo>
                    <a:lnTo>
                      <a:pt x="0" y="3965"/>
                    </a:lnTo>
                    <a:lnTo>
                      <a:pt x="10000" y="10000"/>
                    </a:lnTo>
                  </a:path>
                </a:pathLst>
              </a:custGeom>
              <a:solidFill>
                <a:srgbClr val="12b63d"/>
              </a:solidFill>
              <a:ln w="9360">
                <a:solidFill>
                  <a:srgbClr val="12b63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5" name="Group 59"/>
            <p:cNvGrpSpPr/>
            <p:nvPr/>
          </p:nvGrpSpPr>
          <p:grpSpPr>
            <a:xfrm>
              <a:off x="4282920" y="4292280"/>
              <a:ext cx="930960" cy="642600"/>
              <a:chOff x="4282920" y="4292280"/>
              <a:chExt cx="930960" cy="642600"/>
            </a:xfrm>
          </p:grpSpPr>
          <p:sp>
            <p:nvSpPr>
              <p:cNvPr id="196" name="Freeform 60"/>
              <p:cNvSpPr/>
              <p:nvPr/>
            </p:nvSpPr>
            <p:spPr>
              <a:xfrm>
                <a:off x="4282920" y="4352400"/>
                <a:ext cx="892080" cy="363600"/>
              </a:xfrm>
              <a:custGeom>
                <a:avLst/>
                <a:gdLst>
                  <a:gd name="textAreaLeft" fmla="*/ 0 w 892080"/>
                  <a:gd name="textAreaRight" fmla="*/ 892440 w 892080"/>
                  <a:gd name="textAreaTop" fmla="*/ 0 h 363600"/>
                  <a:gd name="textAreaBottom" fmla="*/ 363960 h 363600"/>
                </a:gdLst>
                <a:ahLst/>
                <a:rect l="textAreaLeft" t="textAreaTop" r="textAreaRight" b="textAreaBottom"/>
                <a:pathLst>
                  <a:path w="10000" h="10000">
                    <a:moveTo>
                      <a:pt x="0" y="0"/>
                    </a:moveTo>
                    <a:lnTo>
                      <a:pt x="10000" y="0"/>
                    </a:lnTo>
                    <a:lnTo>
                      <a:pt x="10000" y="10000"/>
                    </a:lnTo>
                    <a:lnTo>
                      <a:pt x="0" y="1000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Text Box 61"/>
              <p:cNvSpPr/>
              <p:nvPr/>
            </p:nvSpPr>
            <p:spPr>
              <a:xfrm>
                <a:off x="4408920" y="4292280"/>
                <a:ext cx="8049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7000">
                  <a:lnSpc>
                    <a:spcPts val="2160"/>
                  </a:lnSpc>
                  <a:tabLst>
                    <a:tab algn="l" pos="0"/>
                    <a:tab algn="l" pos="903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2b63d"/>
                    </a:solidFill>
                    <a:latin typeface="Calibri"/>
                  </a:rPr>
                  <a:t>Actio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27000">
                  <a:lnSpc>
                    <a:spcPts val="2160"/>
                  </a:lnSpc>
                  <a:tabLst>
                    <a:tab algn="l" pos="0"/>
                    <a:tab algn="l" pos="903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98" name="Group 62"/>
          <p:cNvGrpSpPr/>
          <p:nvPr/>
        </p:nvGrpSpPr>
        <p:grpSpPr>
          <a:xfrm>
            <a:off x="2959200" y="4124160"/>
            <a:ext cx="1628280" cy="1210680"/>
            <a:chOff x="2959200" y="4124160"/>
            <a:chExt cx="1628280" cy="1210680"/>
          </a:xfrm>
        </p:grpSpPr>
        <p:grpSp>
          <p:nvGrpSpPr>
            <p:cNvPr id="199" name="Group 63"/>
            <p:cNvGrpSpPr/>
            <p:nvPr/>
          </p:nvGrpSpPr>
          <p:grpSpPr>
            <a:xfrm>
              <a:off x="3749760" y="4124160"/>
              <a:ext cx="837720" cy="1143000"/>
              <a:chOff x="3749760" y="4124160"/>
              <a:chExt cx="837720" cy="1143000"/>
            </a:xfrm>
          </p:grpSpPr>
          <p:sp>
            <p:nvSpPr>
              <p:cNvPr id="200" name="Line 64"/>
              <p:cNvSpPr/>
              <p:nvPr/>
            </p:nvSpPr>
            <p:spPr>
              <a:xfrm>
                <a:off x="4041720" y="4514760"/>
                <a:ext cx="545760" cy="752400"/>
              </a:xfrm>
              <a:prstGeom prst="line">
                <a:avLst/>
              </a:prstGeom>
              <a:ln w="50760">
                <a:solidFill>
                  <a:srgbClr val="2a0ef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Freeform 65"/>
              <p:cNvSpPr/>
              <p:nvPr/>
            </p:nvSpPr>
            <p:spPr>
              <a:xfrm>
                <a:off x="3749760" y="4124160"/>
                <a:ext cx="472680" cy="601560"/>
              </a:xfrm>
              <a:custGeom>
                <a:avLst/>
                <a:gdLst>
                  <a:gd name="textAreaLeft" fmla="*/ 0 w 472680"/>
                  <a:gd name="textAreaRight" fmla="*/ 473040 w 472680"/>
                  <a:gd name="textAreaTop" fmla="*/ 0 h 601560"/>
                  <a:gd name="textAreaBottom" fmla="*/ 601560 h 601560"/>
                </a:gdLst>
                <a:ahLst/>
                <a:rect l="textAreaLeft" t="textAreaTop" r="textAreaRight" b="textAreaBottom"/>
                <a:pathLst>
                  <a:path w="10000" h="10000">
                    <a:moveTo>
                      <a:pt x="0" y="0"/>
                    </a:moveTo>
                    <a:lnTo>
                      <a:pt x="4904" y="10000"/>
                    </a:lnTo>
                    <a:lnTo>
                      <a:pt x="10000" y="597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2a0ef6"/>
              </a:solidFill>
              <a:ln w="9360">
                <a:solidFill>
                  <a:srgbClr val="2a0ef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2" name="Group 66"/>
            <p:cNvGrpSpPr/>
            <p:nvPr/>
          </p:nvGrpSpPr>
          <p:grpSpPr>
            <a:xfrm>
              <a:off x="2959200" y="4647960"/>
              <a:ext cx="1361880" cy="686880"/>
              <a:chOff x="2959200" y="4647960"/>
              <a:chExt cx="1361880" cy="686880"/>
            </a:xfrm>
          </p:grpSpPr>
          <p:sp>
            <p:nvSpPr>
              <p:cNvPr id="203" name="Freeform 67"/>
              <p:cNvSpPr/>
              <p:nvPr/>
            </p:nvSpPr>
            <p:spPr>
              <a:xfrm>
                <a:off x="2959200" y="4647960"/>
                <a:ext cx="1361880" cy="363600"/>
              </a:xfrm>
              <a:custGeom>
                <a:avLst/>
                <a:gdLst>
                  <a:gd name="textAreaLeft" fmla="*/ 0 w 1361880"/>
                  <a:gd name="textAreaRight" fmla="*/ 1362240 w 1361880"/>
                  <a:gd name="textAreaTop" fmla="*/ 0 h 363600"/>
                  <a:gd name="textAreaBottom" fmla="*/ 363960 h 363600"/>
                </a:gdLst>
                <a:ahLst/>
                <a:rect l="textAreaLeft" t="textAreaTop" r="textAreaRight" b="textAreaBottom"/>
                <a:pathLst>
                  <a:path w="10000" h="10000">
                    <a:moveTo>
                      <a:pt x="0" y="0"/>
                    </a:moveTo>
                    <a:lnTo>
                      <a:pt x="10000" y="0"/>
                    </a:lnTo>
                    <a:lnTo>
                      <a:pt x="10000" y="10000"/>
                    </a:lnTo>
                    <a:lnTo>
                      <a:pt x="0" y="1000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Text Box 68"/>
              <p:cNvSpPr/>
              <p:nvPr/>
            </p:nvSpPr>
            <p:spPr>
              <a:xfrm>
                <a:off x="2962800" y="4692240"/>
                <a:ext cx="12182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7000">
                  <a:lnSpc>
                    <a:spcPts val="2160"/>
                  </a:lnSpc>
                  <a:tabLst>
                    <a:tab algn="l" pos="0"/>
                    <a:tab algn="l" pos="90360"/>
                    <a:tab algn="l" pos="10047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2a0ef6"/>
                    </a:solidFill>
                    <a:latin typeface="Calibri"/>
                  </a:rPr>
                  <a:t>Perceptio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27000">
                  <a:lnSpc>
                    <a:spcPts val="2160"/>
                  </a:lnSpc>
                  <a:tabLst>
                    <a:tab algn="l" pos="0"/>
                    <a:tab algn="l" pos="90360"/>
                    <a:tab algn="l" pos="10047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05" name="Group 69"/>
          <p:cNvGrpSpPr/>
          <p:nvPr/>
        </p:nvGrpSpPr>
        <p:grpSpPr>
          <a:xfrm>
            <a:off x="4359240" y="3591000"/>
            <a:ext cx="2060640" cy="915480"/>
            <a:chOff x="4359240" y="3591000"/>
            <a:chExt cx="2060640" cy="915480"/>
          </a:xfrm>
        </p:grpSpPr>
        <p:grpSp>
          <p:nvGrpSpPr>
            <p:cNvPr id="206" name="Group 70"/>
            <p:cNvGrpSpPr/>
            <p:nvPr/>
          </p:nvGrpSpPr>
          <p:grpSpPr>
            <a:xfrm>
              <a:off x="4359240" y="3591000"/>
              <a:ext cx="2055960" cy="304920"/>
              <a:chOff x="4359240" y="3591000"/>
              <a:chExt cx="2055960" cy="304920"/>
            </a:xfrm>
          </p:grpSpPr>
          <p:sp>
            <p:nvSpPr>
              <p:cNvPr id="207" name="Line 71"/>
              <p:cNvSpPr/>
              <p:nvPr/>
            </p:nvSpPr>
            <p:spPr>
              <a:xfrm>
                <a:off x="4576680" y="3672000"/>
                <a:ext cx="1838520" cy="223920"/>
              </a:xfrm>
              <a:prstGeom prst="line">
                <a:avLst/>
              </a:prstGeom>
              <a:ln w="50760">
                <a:solidFill>
                  <a:srgbClr val="2a0ef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Freeform 72"/>
              <p:cNvSpPr/>
              <p:nvPr/>
            </p:nvSpPr>
            <p:spPr>
              <a:xfrm>
                <a:off x="4359240" y="3591000"/>
                <a:ext cx="376200" cy="157320"/>
              </a:xfrm>
              <a:custGeom>
                <a:avLst/>
                <a:gdLst>
                  <a:gd name="textAreaLeft" fmla="*/ 0 w 376200"/>
                  <a:gd name="textAreaRight" fmla="*/ 376560 w 376200"/>
                  <a:gd name="textAreaTop" fmla="*/ 0 h 157320"/>
                  <a:gd name="textAreaBottom" fmla="*/ 157680 h 157320"/>
                </a:gdLst>
                <a:ahLst/>
                <a:rect l="textAreaLeft" t="textAreaTop" r="textAreaRight" b="textAreaBottom"/>
                <a:pathLst>
                  <a:path w="10000" h="10000">
                    <a:moveTo>
                      <a:pt x="0" y="1862"/>
                    </a:moveTo>
                    <a:lnTo>
                      <a:pt x="9010" y="10000"/>
                    </a:lnTo>
                    <a:lnTo>
                      <a:pt x="10000" y="0"/>
                    </a:lnTo>
                    <a:lnTo>
                      <a:pt x="0" y="1862"/>
                    </a:lnTo>
                  </a:path>
                </a:pathLst>
              </a:custGeom>
              <a:solidFill>
                <a:srgbClr val="2a0ef6"/>
              </a:solidFill>
              <a:ln w="9360">
                <a:solidFill>
                  <a:srgbClr val="2a0ef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9" name="Group 73"/>
            <p:cNvGrpSpPr/>
            <p:nvPr/>
          </p:nvGrpSpPr>
          <p:grpSpPr>
            <a:xfrm>
              <a:off x="4511520" y="3819600"/>
              <a:ext cx="1908360" cy="686880"/>
              <a:chOff x="4511520" y="3819600"/>
              <a:chExt cx="1908360" cy="686880"/>
            </a:xfrm>
          </p:grpSpPr>
          <p:sp>
            <p:nvSpPr>
              <p:cNvPr id="210" name="Freeform 74"/>
              <p:cNvSpPr/>
              <p:nvPr/>
            </p:nvSpPr>
            <p:spPr>
              <a:xfrm>
                <a:off x="4511520" y="3819600"/>
                <a:ext cx="1908360" cy="363600"/>
              </a:xfrm>
              <a:custGeom>
                <a:avLst/>
                <a:gdLst>
                  <a:gd name="textAreaLeft" fmla="*/ 0 w 1908360"/>
                  <a:gd name="textAreaRight" fmla="*/ 1908720 w 1908360"/>
                  <a:gd name="textAreaTop" fmla="*/ 0 h 363600"/>
                  <a:gd name="textAreaBottom" fmla="*/ 363960 h 363600"/>
                </a:gdLst>
                <a:ahLst/>
                <a:rect l="textAreaLeft" t="textAreaTop" r="textAreaRight" b="textAreaBottom"/>
                <a:pathLst>
                  <a:path w="10000" h="10000">
                    <a:moveTo>
                      <a:pt x="0" y="0"/>
                    </a:moveTo>
                    <a:lnTo>
                      <a:pt x="10000" y="0"/>
                    </a:lnTo>
                    <a:lnTo>
                      <a:pt x="10000" y="10000"/>
                    </a:lnTo>
                    <a:lnTo>
                      <a:pt x="0" y="1000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Text Box 75"/>
              <p:cNvSpPr/>
              <p:nvPr/>
            </p:nvSpPr>
            <p:spPr>
              <a:xfrm>
                <a:off x="4520160" y="3863880"/>
                <a:ext cx="1683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7000">
                  <a:lnSpc>
                    <a:spcPts val="2160"/>
                  </a:lnSpc>
                  <a:tabLst>
                    <a:tab algn="l" pos="0"/>
                    <a:tab algn="l" pos="90360"/>
                    <a:tab algn="l" pos="10047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2a0ef6"/>
                    </a:solidFill>
                    <a:latin typeface="Calibri"/>
                  </a:rPr>
                  <a:t>Communicatio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27000">
                  <a:lnSpc>
                    <a:spcPts val="2160"/>
                  </a:lnSpc>
                  <a:tabLst>
                    <a:tab algn="l" pos="0"/>
                    <a:tab algn="l" pos="90360"/>
                    <a:tab algn="l" pos="10047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2" name="Text Box 13"/>
          <p:cNvSpPr/>
          <p:nvPr/>
        </p:nvSpPr>
        <p:spPr>
          <a:xfrm>
            <a:off x="428760" y="6521400"/>
            <a:ext cx="2286000" cy="337320"/>
          </a:xfrm>
          <a:prstGeom prst="rect">
            <a:avLst/>
          </a:prstGeom>
          <a:solidFill>
            <a:srgbClr val="d0d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source: Nigel Gilbe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2" descr=""/>
          <p:cNvPicPr/>
          <p:nvPr/>
        </p:nvPicPr>
        <p:blipFill>
          <a:blip r:embed="rId1"/>
          <a:stretch/>
        </p:blipFill>
        <p:spPr>
          <a:xfrm>
            <a:off x="-120600" y="-27000"/>
            <a:ext cx="9264600" cy="7272360"/>
          </a:xfrm>
          <a:prstGeom prst="rect">
            <a:avLst/>
          </a:prstGeom>
          <a:ln w="0">
            <a:noFill/>
          </a:ln>
        </p:spPr>
      </p:pic>
      <p:sp>
        <p:nvSpPr>
          <p:cNvPr id="214" name="Rectangle 11"/>
          <p:cNvSpPr/>
          <p:nvPr/>
        </p:nvSpPr>
        <p:spPr>
          <a:xfrm>
            <a:off x="539640" y="6597720"/>
            <a:ext cx="8369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16080" indent="-316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316080"/>
                <a:tab algn="l" pos="763560"/>
                <a:tab algn="l" pos="1212840"/>
                <a:tab algn="l" pos="1662120"/>
                <a:tab algn="l" pos="2111400"/>
                <a:tab algn="l" pos="2560680"/>
                <a:tab algn="l" pos="3009960"/>
                <a:tab algn="l" pos="3459240"/>
                <a:tab algn="l" pos="3908520"/>
                <a:tab algn="l" pos="4357800"/>
                <a:tab algn="l" pos="4807080"/>
                <a:tab algn="l" pos="5256360"/>
                <a:tab algn="l" pos="5705640"/>
                <a:tab algn="l" pos="6154560"/>
                <a:tab algn="l" pos="6603840"/>
                <a:tab algn="l" pos="7053120"/>
                <a:tab algn="l" pos="7502400"/>
                <a:tab algn="l" pos="7951680"/>
                <a:tab algn="l" pos="8400960"/>
                <a:tab algn="l" pos="8850240"/>
                <a:tab algn="l" pos="929952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  <a:ea typeface="Geneva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Verdana"/>
                <a:ea typeface="Geneva"/>
              </a:rPr>
              <a:t>Source: http://www.leggmason.com/thoughtleaderforum/2004/conference/transcripts/arthur_trans.as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723600" y="357120"/>
            <a:ext cx="822492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  <a:ea typeface="DejaVu Sans"/>
              </a:rPr>
              <a:t>Why is it interesting?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16" name="Text Box 2"/>
          <p:cNvSpPr/>
          <p:nvPr/>
        </p:nvSpPr>
        <p:spPr>
          <a:xfrm>
            <a:off x="804960" y="1484280"/>
            <a:ext cx="8088120" cy="42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16080" indent="-316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316080"/>
                <a:tab algn="l" pos="763560"/>
                <a:tab algn="l" pos="1212840"/>
                <a:tab algn="l" pos="1662120"/>
                <a:tab algn="l" pos="2111400"/>
                <a:tab algn="l" pos="2560680"/>
                <a:tab algn="l" pos="3009960"/>
                <a:tab algn="l" pos="3459240"/>
                <a:tab algn="l" pos="3908520"/>
                <a:tab algn="l" pos="4357800"/>
                <a:tab algn="l" pos="4807080"/>
                <a:tab algn="l" pos="5256360"/>
                <a:tab algn="l" pos="5705640"/>
                <a:tab algn="l" pos="6154560"/>
                <a:tab algn="l" pos="6603840"/>
                <a:tab algn="l" pos="7053120"/>
                <a:tab algn="l" pos="7502400"/>
                <a:tab algn="l" pos="7951680"/>
                <a:tab algn="l" pos="8400960"/>
                <a:tab algn="l" pos="8850240"/>
                <a:tab algn="l" pos="929952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3280" indent="-316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316080"/>
                <a:tab algn="l" pos="763560"/>
                <a:tab algn="l" pos="1212840"/>
                <a:tab algn="l" pos="1662120"/>
                <a:tab algn="l" pos="2111400"/>
                <a:tab algn="l" pos="2560680"/>
                <a:tab algn="l" pos="3009960"/>
                <a:tab algn="l" pos="3459240"/>
                <a:tab algn="l" pos="3908520"/>
                <a:tab algn="l" pos="4357800"/>
                <a:tab algn="l" pos="4807080"/>
                <a:tab algn="l" pos="5256360"/>
                <a:tab algn="l" pos="5705640"/>
                <a:tab algn="l" pos="6154560"/>
                <a:tab algn="l" pos="6603840"/>
                <a:tab algn="l" pos="7053120"/>
                <a:tab algn="l" pos="7502400"/>
                <a:tab algn="l" pos="7951680"/>
                <a:tab algn="l" pos="8400960"/>
                <a:tab algn="l" pos="8850240"/>
                <a:tab algn="l" pos="929952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ructure is emergent from agent inter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73280" indent="-316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316080"/>
                <a:tab algn="l" pos="763560"/>
                <a:tab algn="l" pos="1212840"/>
                <a:tab algn="l" pos="1662120"/>
                <a:tab algn="l" pos="2111400"/>
                <a:tab algn="l" pos="2560680"/>
                <a:tab algn="l" pos="3009960"/>
                <a:tab algn="l" pos="3459240"/>
                <a:tab algn="l" pos="3908520"/>
                <a:tab algn="l" pos="4357800"/>
                <a:tab algn="l" pos="4807080"/>
                <a:tab algn="l" pos="5256360"/>
                <a:tab algn="l" pos="5705640"/>
                <a:tab algn="l" pos="6154560"/>
                <a:tab algn="l" pos="6603840"/>
                <a:tab algn="l" pos="7053120"/>
                <a:tab algn="l" pos="7502400"/>
                <a:tab algn="l" pos="7951680"/>
                <a:tab algn="l" pos="8400960"/>
                <a:tab algn="l" pos="8850240"/>
                <a:tab algn="l" pos="929952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this can be directly model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6080" indent="-316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316080"/>
                <a:tab algn="l" pos="763560"/>
                <a:tab algn="l" pos="1212840"/>
                <a:tab algn="l" pos="1662120"/>
                <a:tab algn="l" pos="2111400"/>
                <a:tab algn="l" pos="2560680"/>
                <a:tab algn="l" pos="3009960"/>
                <a:tab algn="l" pos="3459240"/>
                <a:tab algn="l" pos="3908520"/>
                <a:tab algn="l" pos="4357800"/>
                <a:tab algn="l" pos="4807080"/>
                <a:tab algn="l" pos="5256360"/>
                <a:tab algn="l" pos="5705640"/>
                <a:tab algn="l" pos="6154560"/>
                <a:tab algn="l" pos="6603840"/>
                <a:tab algn="l" pos="7053120"/>
                <a:tab algn="l" pos="7502400"/>
                <a:tab algn="l" pos="7951680"/>
                <a:tab algn="l" pos="8400960"/>
                <a:tab algn="l" pos="8850240"/>
                <a:tab algn="l" pos="929952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g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3280" indent="-316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316080"/>
                <a:tab algn="l" pos="763560"/>
                <a:tab algn="l" pos="1212840"/>
                <a:tab algn="l" pos="1662120"/>
                <a:tab algn="l" pos="2111400"/>
                <a:tab algn="l" pos="2560680"/>
                <a:tab algn="l" pos="3009960"/>
                <a:tab algn="l" pos="3459240"/>
                <a:tab algn="l" pos="3908520"/>
                <a:tab algn="l" pos="4357800"/>
                <a:tab algn="l" pos="4807080"/>
                <a:tab algn="l" pos="5256360"/>
                <a:tab algn="l" pos="5705640"/>
                <a:tab algn="l" pos="6154560"/>
                <a:tab algn="l" pos="6603840"/>
                <a:tab algn="l" pos="7053120"/>
                <a:tab algn="l" pos="7502400"/>
                <a:tab algn="l" pos="7951680"/>
                <a:tab algn="l" pos="8400960"/>
                <a:tab algn="l" pos="8850240"/>
                <a:tab algn="l" pos="929952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s have goals, beliefs and 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73280" indent="-316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316080"/>
                <a:tab algn="l" pos="763560"/>
                <a:tab algn="l" pos="1212840"/>
                <a:tab algn="l" pos="1662120"/>
                <a:tab algn="l" pos="2111400"/>
                <a:tab algn="l" pos="2560680"/>
                <a:tab algn="l" pos="3009960"/>
                <a:tab algn="l" pos="3459240"/>
                <a:tab algn="l" pos="3908520"/>
                <a:tab algn="l" pos="4357800"/>
                <a:tab algn="l" pos="4807080"/>
                <a:tab algn="l" pos="5256360"/>
                <a:tab algn="l" pos="5705640"/>
                <a:tab algn="l" pos="6154560"/>
                <a:tab algn="l" pos="6603840"/>
                <a:tab algn="l" pos="7053120"/>
                <a:tab algn="l" pos="7502400"/>
                <a:tab algn="l" pos="7951680"/>
                <a:tab algn="l" pos="8400960"/>
                <a:tab algn="l" pos="8850240"/>
                <a:tab algn="l" pos="929952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this can be directly model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6080" indent="-316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316080"/>
                <a:tab algn="l" pos="763560"/>
                <a:tab algn="l" pos="1212840"/>
                <a:tab algn="l" pos="1662120"/>
                <a:tab algn="l" pos="2111400"/>
                <a:tab algn="l" pos="2560680"/>
                <a:tab algn="l" pos="3009960"/>
                <a:tab algn="l" pos="3459240"/>
                <a:tab algn="l" pos="3908520"/>
                <a:tab algn="l" pos="4357800"/>
                <a:tab algn="l" pos="4807080"/>
                <a:tab algn="l" pos="5256360"/>
                <a:tab algn="l" pos="5705640"/>
                <a:tab algn="l" pos="6154560"/>
                <a:tab algn="l" pos="6603840"/>
                <a:tab algn="l" pos="7053120"/>
                <a:tab algn="l" pos="7502400"/>
                <a:tab algn="l" pos="7951680"/>
                <a:tab algn="l" pos="8400960"/>
                <a:tab algn="l" pos="8850240"/>
                <a:tab algn="l" pos="929952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yna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3280" indent="-316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316080"/>
                <a:tab algn="l" pos="763560"/>
                <a:tab algn="l" pos="1212840"/>
                <a:tab algn="l" pos="1662120"/>
                <a:tab algn="l" pos="2111400"/>
                <a:tab algn="l" pos="2560680"/>
                <a:tab algn="l" pos="3009960"/>
                <a:tab algn="l" pos="3459240"/>
                <a:tab algn="l" pos="3908520"/>
                <a:tab algn="l" pos="4357800"/>
                <a:tab algn="l" pos="4807080"/>
                <a:tab algn="l" pos="5256360"/>
                <a:tab algn="l" pos="5705640"/>
                <a:tab algn="l" pos="6154560"/>
                <a:tab algn="l" pos="6603840"/>
                <a:tab algn="l" pos="7053120"/>
                <a:tab algn="l" pos="7502400"/>
                <a:tab algn="l" pos="7951680"/>
                <a:tab algn="l" pos="8400960"/>
                <a:tab algn="l" pos="8850240"/>
                <a:tab algn="l" pos="929952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ngs change, develop, evol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73280" indent="-316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316080"/>
                <a:tab algn="l" pos="763560"/>
                <a:tab algn="l" pos="1212840"/>
                <a:tab algn="l" pos="1662120"/>
                <a:tab algn="l" pos="2111400"/>
                <a:tab algn="l" pos="2560680"/>
                <a:tab algn="l" pos="3009960"/>
                <a:tab algn="l" pos="3459240"/>
                <a:tab algn="l" pos="3908520"/>
                <a:tab algn="l" pos="4357800"/>
                <a:tab algn="l" pos="4807080"/>
                <a:tab algn="l" pos="5256360"/>
                <a:tab algn="l" pos="5705640"/>
                <a:tab algn="l" pos="6154560"/>
                <a:tab algn="l" pos="6603840"/>
                <a:tab algn="l" pos="7053120"/>
                <a:tab algn="l" pos="7502400"/>
                <a:tab algn="l" pos="7951680"/>
                <a:tab algn="l" pos="8400960"/>
                <a:tab algn="l" pos="8850240"/>
                <a:tab algn="l" pos="929952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s move (in space and social location) and lear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73280" indent="-316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316080"/>
                <a:tab algn="l" pos="763560"/>
                <a:tab algn="l" pos="1212840"/>
                <a:tab algn="l" pos="1662120"/>
                <a:tab algn="l" pos="2111400"/>
                <a:tab algn="l" pos="2560680"/>
                <a:tab algn="l" pos="3009960"/>
                <a:tab algn="l" pos="3459240"/>
                <a:tab algn="l" pos="3908520"/>
                <a:tab algn="l" pos="4357800"/>
                <a:tab algn="l" pos="4807080"/>
                <a:tab algn="l" pos="5256360"/>
                <a:tab algn="l" pos="5705640"/>
                <a:tab algn="l" pos="6154560"/>
                <a:tab algn="l" pos="6603840"/>
                <a:tab algn="l" pos="7053120"/>
                <a:tab algn="l" pos="7502400"/>
                <a:tab algn="l" pos="7951680"/>
                <a:tab algn="l" pos="8400960"/>
                <a:tab algn="l" pos="8850240"/>
                <a:tab algn="l" pos="929952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these can be directly model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3"/>
          <p:cNvSpPr/>
          <p:nvPr/>
        </p:nvSpPr>
        <p:spPr>
          <a:xfrm>
            <a:off x="6659640" y="6453360"/>
            <a:ext cx="256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ource: (Gilbert, 200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5T08:59:46Z</dcterms:created>
  <dc:creator>Gilberto Camara</dc:creator>
  <dc:description/>
  <dc:language>en-US</dc:language>
  <cp:lastModifiedBy>Pedro R Andrade Nt</cp:lastModifiedBy>
  <dcterms:modified xsi:type="dcterms:W3CDTF">2020-09-04T18:13:36Z</dcterms:modified>
  <cp:revision>415</cp:revision>
  <dc:subject/>
  <dc:title>Low-carbon growth in Brazil?</dc:title>
</cp:coreProperties>
</file>